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wmf" ContentType="image/x-wmf"/>
  <Override PartName="/ppt/media/image14.gif" ContentType="image/gif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start.wav" ContentType="audio/x-wav"/>
  <Override PartName="/ppt/media/image9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4CAE2-4CC7-4636-80B0-F08E49A581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0CC24-0D2D-453A-AA55-3C4A8AA8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045EAA-F68F-4242-A71C-7D763ABC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CE7FD8-AA11-4A82-AD5C-2DEEFC23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CDDEBD-EBC8-46E3-829E-717DAC16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A7055C-2E19-4EEC-A2A8-706A20C5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A7BF1E-7EC5-4EFA-8958-406DA553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E4CA27-2549-47D4-935D-41AE6C0E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76297C-62AB-4E89-9352-CA4ADE73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BF8B88-26DF-4FAD-ACB2-C766AAF2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202FFC-037A-409D-8241-F79082DAC7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4B99D-0346-4539-8779-F8743E4E97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57281-973B-4DF9-8BE1-01046EA1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7C193-B25A-4975-B27B-0AFB7F15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547C6-12E6-43F6-B71A-F42DB3C1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988FC-51A6-4CAC-ADFB-DEA2DF39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432CE-D78E-4C46-8A4D-35F08F86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0602D-FC3D-4D7E-8E3C-82CD013E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46526-81C8-4A79-9ABE-8D8F5CDA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339D5-F24F-48C3-BD06-ECC26980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AE8B3-8A92-4E5E-8550-6F14DCEA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AEAB7-F043-41A0-BCC8-B60C87F7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43175-A954-4938-9FEA-EB713F3D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13D2B-651A-49EE-AE00-140911E8D1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59AC0-BE08-4137-86AE-3C2C21355A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0C1813-4A45-4133-82F1-CFAF831067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F3F7FA-DEAC-40FD-9D90-8D9E9562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B8EC00-F901-4183-8A91-71AF5EE6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0798B6-064A-469E-ADB4-7AE00F8F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8EF7B8-E916-4276-B5A5-9A5CD949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039AB3-8669-4709-865F-52193A3E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A63402-3D4D-4DBC-9A6B-C5481C3B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C6055C-A31A-4236-9B9D-B198F8DB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4E6BBD-CD45-4F6F-8A83-22C96D91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0ABAF-2A6E-41C8-9688-5B40E979EE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9980FE-2544-4EF6-9F46-00690041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CE63E1-99AD-4979-AF45-1CBC87E3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0F785D-546F-4A23-B972-ED565D514D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D5494-F415-4806-9816-7199200E66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FF5F79-148F-4E96-A9F9-23308D5F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B8E338-1F4E-4F46-93B2-BA92CE29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29A79D-2B31-4FA9-9274-A087C4D7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D5A06-A011-485A-85D0-D5187610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7241A3-FD66-4301-B6EA-83CAFF30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8E5612-9996-4531-AA49-04728A07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EA94A-787F-460A-B898-15B1127E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C93275-8FA4-40F8-B6BE-6DE4D006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CC842-74A7-4EE4-8451-DB737473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3DDDB-2134-43DA-8430-F6989BD0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7F364E-5BCA-4EDA-BC02-3893D3D1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DC51C0-5C88-4611-A290-D19C44B872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D214B-FF28-479A-B75D-68D3FEDADA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8624D-5D14-4618-B4AC-71F5D68A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56B8D-8236-4900-9BCC-39A19AD9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17B23-54BE-46FB-9410-30755712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3FB78-3EA7-42C3-83DB-A7944FF2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54F11-4A2A-46AF-A486-8737A46C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3A657-398D-4A94-98B8-62EFA8EE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1A9A2-D2AF-496F-B22F-4464471D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B41B8-86F8-4D6F-9DCE-60FC80EF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28175-140E-4F6E-ADA5-42899B0A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0343B-40B7-4731-8258-8BEF7C06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F6102-6009-41DD-9998-F35AE02C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D01A9-17F1-40C7-AD34-346D04D7C4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997282-E637-4C61-946A-38303CE759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5E6020-4960-4EF0-AA93-E27A980A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828CA3-5E4B-4396-AD3C-DC2003C7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40868-8403-4C3E-ACC0-9889A07F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F0A882-AC04-4AE3-9EF5-36C8D302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2DEF42-24DD-4DA7-85B6-A2E2FDFD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EE50E5-1714-42D5-88A5-1C399F8B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9B3E6B-2C03-4E33-8761-6D2207C6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40ED77-0BCD-48FC-93C3-1E2AA3EB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CC579A-A130-4443-920E-FE683E36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E95106-BA59-448C-9991-856078DC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6129A0-1B3F-4455-8A44-8633E724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280250-FFA5-4EC0-83F8-3EE5519F3B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113894-ED79-442E-8D65-DD7B8B7940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1ABA0-432A-4368-BA48-229ACD69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5B71C4-B9F8-49EC-981D-62C9FEE5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B1E8C0-E750-40A5-9F99-CD0F9B5D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3899C2-C0CD-48EC-87E4-006D84FF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A7A2C4-CF0F-44E9-8607-EBB01E39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24D2B1-6BD9-425A-B6C4-0EC3072D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FEEE31-997D-4F08-8468-D254FA09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0387FD-D8EF-48FF-81D5-C7C23028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F099DA-EA55-40B9-A31D-5021805D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822360-DE75-4536-A693-A970C28A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DE571A-6C42-4E72-A71B-EE708F5F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A84C3-B0B9-4AB7-A012-552A08D1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A021FE-20DF-4DCF-86F1-0EAD81224D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E7328-41D3-447A-B591-EC9A1D31DA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E0D26-E9C5-49F6-953A-787108DC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A3810-14C5-4010-9C98-EFCE6A10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9A112-7818-47CB-9749-9399A2AC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51981-4F65-48F1-A735-27A8C7B1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A63F4-9201-4F07-AB05-E3FA46F9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3BF63-5DCF-4438-A8D0-AF2B0B9C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8277D-8929-46C7-80ED-73F89C34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39EBD-AE7A-4878-822A-11386555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CDC89-F673-433D-A765-51B8A43A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80FBA-120A-460C-B6EA-653548B3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846AC-5058-4F48-8144-2C2FF3C5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8B9F7-FEF9-4300-9923-D82B793E76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992162-3CC4-4D89-9EDA-142AC0785E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9158BF-8762-4E8A-875A-E4048BD3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35CBCB-3ED6-4140-A7C8-0901AF4B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3AEA6F-241F-436B-92DC-CFBADB5C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947ABD-1EAF-41D8-BCA5-96D04A16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999AC7-68F7-49D9-B58F-9118DCA3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48DFCD-25FD-477C-A879-4822137A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5875A-8C96-4404-9B2A-B32E4CA2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FA7FA-74C9-4280-8122-39FE7ADB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FA13E6-8379-4CBF-AA4F-4EBD9559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C4185E-7BD8-4C0F-BD64-BCD0B7D4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92C952-5EF9-4C81-92F4-40E9B063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CBC29F-0098-48E1-8D86-DF267CFF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71C5EE-4044-4DE5-826B-6BDBA4575A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38A839-BDAF-4A12-B6ED-A238D36DB6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CED37EC-1ACD-48E7-93C9-27471E33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D12382-D5BF-43BA-A85B-30DACC35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427627-F7BF-4E42-8F39-E59F9164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2CD6139-5ED2-4477-9983-4FD5FCB6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CB32E-7227-460A-BE7F-5AC3F939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8BA8B33-12FE-4EF6-9B80-0ACB751A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E4D322-C3E1-406D-916E-87396FB5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703393-05E9-4969-BB6C-A5E47209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CE5AE4-9BB1-4B67-8BBE-927986AA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87064A-D7ED-481E-8A39-084F79FC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E6BBB0-9DC8-4F02-8EC5-850192B3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5DEAB1-BF9F-41EC-B249-F1AC4FCC67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1B889D-CD0D-4DFD-B68E-7E9C7A217D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D0893-F753-4A5E-9569-B3FBE808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11631-6F00-4E05-9B44-774C486A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E216E-AFF0-4146-A296-CB53EFA4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2EF71-B53E-4C79-960D-C7DEBD6D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E9FFAC-41D2-4032-A989-A6BF697C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185D0-539A-46D8-AC26-CF3C6EA8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843EC-0F5A-41F1-ADDB-0E6BCAE5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95B984-3B6D-4F16-B950-528313BE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88796-F6F4-4061-9EE3-773DCA8F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D23A95-45B0-4560-902C-71FB9BE8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AA4BEA-93B7-42F3-8C9A-60A7C46A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CF5CA-A8B7-469E-9463-0337C91C3C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2CA3DF-22B5-44AC-96B2-F0302E7804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47D16-FAC2-4F82-80F7-6CB38404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C32FA9-2BC2-419A-BE25-E036EC16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546DD3-09D9-4CC0-9668-6BCD54AB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216687-F95A-459F-A36D-36906380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BBC6BF-475B-4F6A-B1A3-43F14422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12B8DBC-0B46-45A2-8190-00AA0808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546390-6F9F-4C3F-8327-D5BD8F18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E618FA-8E8C-4D20-813F-252A42EB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47ADC5-B211-4480-A9FE-3C4ADB94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C87D7D1-9DF4-4689-A29D-45EE730F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C43518-EB6D-4010-8A09-A1CD8714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EEDC9-17CA-41F5-95C9-78D47C8F5B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E59FC2-F699-4AED-8246-C04A60C8DE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B960C5A-60FA-4CF1-B678-9BB076AAD5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32AF14C-E92B-4321-893C-652F001D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4E1C1A1-A901-43FF-A396-781C2EF5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1359519-AB91-4937-97D6-6706B4E4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777FE62-F23F-456F-B243-FFF90BB0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97F6903-FCA2-4B1D-9753-A475871E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A2C7485-15D8-4FF6-A79F-6211BB0A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73526DD-FA12-45FA-8773-3E2AB7A0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624F620-7483-4473-97BC-ADAC812C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FE386F-E21B-4DF3-AA8A-E5BC0DE6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99A2629-F756-4E05-BFE5-5DA10BC9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679E966-11C2-4D20-B572-B4898767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800EBC-BEC8-4069-BC73-DAD3B5193B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FF6845-1767-48D5-BC2C-82E9BD5DC2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6CCAFB-F179-454B-8C5E-E2D68C6D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24397C-5802-4AAB-94D4-D5F2D114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8EAF41-1669-4E13-849B-31A500F5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285B36-8863-4B9B-8378-B176281C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EAFF3A-7BEC-4608-8262-6CE726C7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703071-3D7D-47AD-8265-16D76832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E925D7-2EDB-4BAD-A62B-24103CA5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0B6506-8F31-48C5-BEA4-202251A3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520924-3401-4F99-868E-116DDF84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2C4DDC-D8FB-4640-B640-43843451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EC8F3B-B5A9-45DB-BA26-7671FF2D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BFBC25-492A-4A97-A33B-92D533C98C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8FEFBD8-E708-432B-BE4A-48F865F8A7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1B912DA-C8B6-47F2-854D-767ECE89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59FEB04-6ED5-4CB3-A402-87F8CAAD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776A273-421C-4FCE-BC3D-F051794B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D6B4966-F8D0-4718-A6E5-849AE55F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09D7B2-6B18-4B7A-B33E-9E86410D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6BADFF9-4EE6-4293-B1F8-16CBD517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262250D-EF3E-4E01-B178-032D14A0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84F2A77-4817-495C-AAFF-B62F76C0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9E8EBB-04E9-45DB-97D9-BAA607F9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2675DE7-3B76-4363-A985-A4427007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016B58C-040B-4431-B95C-7FAB297F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4E21656-A7B7-4341-A708-0C701E5690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61931EC-73BF-43E4-805F-EB3F2D4140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4A98A6D-D9C2-4124-91E6-5C3EA039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0C12984-F696-4311-8C76-65C4C158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86B8A-5006-4714-9B3D-5208C4BF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176B896-6DC5-413E-96AB-99F1BBCA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5F68C49-9B78-47A0-8772-BA977D0D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E04F7B7-842C-476E-A79E-ADECA320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63EEBAA-D150-4D4D-9FFC-6513BD57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C8D7874-37C4-49CB-AB76-D9E67E9D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B6BF057-E5D1-44C1-92C4-4690E73C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3D089DC-FB4E-4F1F-B5F8-C23A3110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BD756B1-1732-441B-A7FA-D000AB41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EE839E9-CEAF-4182-80E5-02F6EC362A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B1490A-1FF5-4CFE-8C12-108B9E0CC2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9CE43C-707B-49A2-8C8C-2C671275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4DC1B2-21D0-48AF-BABF-A0FEC41F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139CC8-7A6A-4026-9E23-A8EB852D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47B174-4714-4FD9-B80B-BEB4DE48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EFA6BC-857F-4FC6-A96F-64338B0A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99565F-81C7-4615-85E5-B1BDC7AE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DD98D-3452-4EA9-8E81-831C48E5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363DCE-CC57-4A05-8F60-7DD22F22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68AD4F-C73B-4629-9DBD-0959FE2C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D8F540-C3A1-45C5-A1E8-498D6F09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D13711-0D73-4404-8496-E43D3066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B8252-A940-4905-B2F0-08EE75A7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F6EEAF-F0BC-46BC-BA7E-B7AA1388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FF61DC-E30F-4B75-A8BC-DFA5E6B7A8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59B365-6525-49EF-AD75-3F3FDD41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5D454C-7657-4D96-B47B-43D0E91E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582C07-C384-4441-9963-3E300391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27AD2F-32ED-41ED-BBD4-52F84803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78D6BD-BCCE-48E3-8A3D-2C97B01E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40EEF9-2F85-4EA5-8A90-DACFB0BB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8EF7F9-B268-4235-A215-A2E8CDF9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7348F5-207A-42EA-BE75-D58C8544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F24274-45B9-4AB4-8911-370176A7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4A9914-B583-4A07-8206-ACF21269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82A2B5-675E-4542-AB94-3E9BF65E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1E3D31-3C06-4B8D-9B32-04E97786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5DBC38-7D53-4C29-8587-ADD50157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50D9C6-FCB3-490C-9275-E641EE09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8BE6D6-20C5-4284-9003-6E760FD4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26E95A-F6C9-498B-BD51-8ED7572A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E9F8D6-6FD5-49A1-B815-61870251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C91DCA-CE16-4463-B665-3706740A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F84F08-C541-49C5-96D5-AE9D3E44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7E1AB1-8066-417C-8BEC-DD0CE665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0ACCCB-839C-44FB-A375-E937F312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D726F2-6F62-4370-A32A-DC7EFDB7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686E71-07EA-47EE-BE4A-3ED7AF02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BD9B97-1425-4FEF-86C8-3DF33A82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926614-CCE1-419F-9928-B87F0D2B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812B77-DA1F-4F31-A5B2-96685813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A01846-F049-499D-9C5F-704829BF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39D560-67CC-4556-AA7B-4A24DB6A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7658EB-7640-4A74-A2CC-AF41EB10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8D1CFD-B787-49D0-B115-5F63E6B2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2C1838-DB60-443D-BABB-9489D5E0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185BB2-6240-4386-BF47-4B4F13E9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FCD543-E441-41FF-884C-DF1740BF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EBD279-F334-414D-8142-46202210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290252-3998-4A9B-A5E8-717F46A1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F97FDF-15F3-41D1-A7D7-FC0F255C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F4CFEB-CC7D-4925-A51F-C4D9315E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46CC13-544F-499A-8D99-BED9C693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DEC73F-0561-46D8-9540-4349BA82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D74219-2603-479C-B9B7-499372EF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4375C7-C509-4F81-A4EA-93B7E4FE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EF0F39-BCA1-4C5B-9C95-1D22BBBD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655208-47D8-467C-81F8-7D05D7AC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5C3749-356A-4EA4-B950-2406256A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BB80DC-1268-448C-A29F-B27F3214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28DE74-CDCA-4058-8185-0F791AF2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8277D8-16B6-4C23-A518-4BAF28F2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61BA35-844D-4A75-B138-17BE0C93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0C1DBB-422A-4528-B7D0-0ECE47DD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F41DFB-1C5F-40C3-8178-D842744D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47F8E0-2AFA-4A21-9190-842DC43C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68BE36-945D-4DBD-BC01-C9B01DFA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AF21AA-B28A-4459-9C22-7C41E7B8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7AE9C0-699D-44FF-A67F-6063DF98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D10825-CB6A-45B3-A2DA-AA70113D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BAA975-EDA1-4508-BFB6-3C5DA88A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A12EF7-6754-4D94-862F-57541B62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586389-62A1-4E14-AA88-43210197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94F52B-2B5A-42CC-A3D0-CA9DF2D3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E64AB8-B07D-4B16-9677-B36A5707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6EE61F-8F59-4E1E-97B4-0EB8D159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C9C59D-A0BD-488E-86C4-3B2DABDB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63340B-93A2-49CF-AA3E-7FE22137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481019-1B4D-408B-8389-D1FB2C39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262E30-6252-461A-8FC4-E48B2AAF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5142D1-5439-4B02-9D06-CC6E41EE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D32180-8052-4D99-87D6-F464A6C1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B32FD1-5606-4B91-99E3-F960BEFD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0693F5-02EA-4462-8313-D0F828D9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A767CF-1F1E-40B7-8C74-B0D22F73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D6CB3E-1025-41FE-B32F-C5A40A0C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928AAB-8119-4827-952D-55E7FC6A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C5B3EA-F339-433F-AE56-80987C94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00BDCD-B903-4B16-8623-DEE207B1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B1F7D5-0714-443D-AEAD-01A1547F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16B67-E5A8-4FE0-BC03-EA4EA59AB3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BC3F34-D106-4BD0-97BB-9322D1FC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3D12AA-6968-47A9-BC16-455069E9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C1924A-AE5E-43DD-9C8B-D2E6E49C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59E6C2-F730-4EE3-ABE9-28278281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A9CDCD-E329-4693-A80C-4534B46C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C41386-372E-4144-A134-445E2ED9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8B8EF0-B97A-40E7-863F-11AF8B91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BF2170-2B6D-4B2C-8BBB-B10F239F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9802BD-C818-4D2C-9DB9-89EE9D94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9D3262-F58B-4B26-A2B2-088D0CE8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5C58D-8DD4-4E02-B8A4-71D45D92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733CFF-D304-4B68-A910-1A4173F8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827F1B-9DEC-4CEF-8BD3-D0D79DEC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5A6383-8215-422B-882C-3810A747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8619C2-51EB-46C7-91FC-69864339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019CA3-BB39-47F8-8122-AC92DD44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B52532-AEAF-4935-866B-88B09A7A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32078B-804C-4996-9F8F-232680E7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B9D270-5055-4D4B-AB81-107C3908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6CC3A2-85CA-480A-BA92-E540890E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0E9B04-B37E-4A67-A890-EDEB406C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D454C-FAFD-4B49-BE99-45EB49E3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224086-313B-4148-AF2E-F851C3C1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99D454-35A1-4E7F-B8AB-FDC95570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AC0526-CB4D-4922-B8C8-3F8D784E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8A701A-735D-4C0F-AC76-13EF05DF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6708B2-79FE-4B7E-AB07-DA996C3F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E243A2-4497-4AAB-900B-75DF6DCB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35D68B-6B22-4D28-8027-E4E0CFEC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0EC1B7-A055-4FF3-B04E-C542E9A8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13AE7D-61C8-4629-8064-141FC2D3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6466AE-13DB-44B7-B4C7-B7DC936B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CA4B4-DECE-4BAD-8F79-170BFFE1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CDDA8-76B4-401E-87D5-4E0DBF5B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708B22-8B2C-4B8B-8E6A-E2562555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0C7D45-D7B7-4A9D-9666-0888ED40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A176FC-C938-426E-8FB3-935BE1D6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8C41D1-06FE-4CFE-A082-C4D6491D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2963CE-7E78-43EF-93A9-534C0FB7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76AB9C-3314-4417-A705-3ED69956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AC1960-85B0-4AA2-9123-39E1D4D8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C1137E-FC7A-4584-BC1E-19189BFC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A848E2-5775-485E-A393-A129163D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D729CB-74EF-4E06-B332-A944BEC5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A276F-A2DB-424C-8AD6-7CB0FBCE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EBB09C-59B6-4A14-B8E7-60E0CF69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AF6368-98BF-4821-8508-14B54066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CD33B2-2D5D-4085-ACED-73810B14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60C232-A75E-4082-A574-72FEDD77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4BDC6B-3D0C-4C41-B6A6-4C29A065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BED49D-3246-4761-98EE-744D11D0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15D347-C2E6-477A-BCF7-4F6D8538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8DA9DA-3974-4B3B-89CD-D1837216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C2C7F5-B82B-426D-9D8E-B23A4ED9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72669C-F1C2-4C48-A0AE-34F3CD35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D2857-8176-42DC-A9BF-950F1F4E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9FB0CB-AD35-4F13-B8CB-EA5D3B1B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DB6DF9-5499-421E-872E-2D032AD7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787692-4202-45D4-9026-18C9DA90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9DD178-F166-4896-9795-EDFC86A7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27D06A-66C2-402A-AFAB-DB776736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BF4EE3-622A-4A3C-A7DD-7FCD18C6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BE644B-1507-45A8-9683-1C4B1281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6A2373-7D48-49A5-AE5A-DBF447B4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F727E3-A636-4EA1-8A09-709A544C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49C830-1AF0-482A-8A3E-B14BA8DE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D2855-CBA4-4EEE-99CB-97FDABFD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B66259-E805-487A-AECD-FC84083A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ADC3F4-5E75-45FA-B69A-CFB37D2F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D09BBA-6B0D-4506-9949-0279BFBD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B9297-A3AF-4E9E-BAFD-18AF76C2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9A52A-A001-4B01-9201-31746AC5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EEF85-6AED-41C6-9A59-14CC82D2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2DE1F-CE83-4A2F-BA31-80AE57EA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1B849-FCAF-4219-BE1D-DE5CAD878C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60E465-38C3-47AB-92BC-23A8B4E8C9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A3297-A923-4558-BF70-EEA93CD0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33C6F4-9D38-4196-9920-C588F92A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4802BF-AFF8-4891-9CF5-73B46824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7EC76-669F-412B-A469-E9D3FE30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B6EE3E-00CA-4FE7-B034-A5FA2B8F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07F4E8-E125-4491-BB59-44193EC0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1F90C4-41D7-476F-A111-04DD7B9A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437E62-8036-481F-AE16-80F37B23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9B5C93-84D1-44A9-8E0C-40F23397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7E54C7-1B00-4BE5-8E14-AE9CFC08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832639-09E7-4492-86A0-84FE1A07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93412-C6A0-4C0E-B6DA-FBEE0D47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F77608-9303-43A6-A1DF-7ECF4BE02D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65438C-67EB-40C6-9699-39A5E9781D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102EB7-CEDB-4707-A238-67E5A978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BD2FFC-11EF-4D6C-8D09-0F36ABD5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9CAD78-F781-4A29-A640-84F32F90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1DA00F-4388-4707-9CEC-6D317FD2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1F72D9-4C78-4AB2-A0E7-5397D136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638224-89EA-4FD6-B2AD-89709694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05FF22-971D-4582-BC3B-9FF5FB2F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AE8A62-6EA6-49A5-B54F-59BC13DD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EAB37-3CB0-4EC2-B805-9E6B1864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1800E4-FA5C-4CF9-ABD7-73E9EBD1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AEBE1F-0A0A-48BB-99DE-AE9BA772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2B7767-4B6D-4764-9F53-785ADC2E39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7CAF5-D5F9-42C5-B89F-92C26CA448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15BAF-5FE7-4343-AEF9-9CF747C8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972E6-8BB3-43D8-A1A8-FFD78AEE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B2A10-7C58-4B2C-981A-B2C3E8B9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9A1D5-FF18-4BD9-8E42-E229C393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F4611-7540-40FE-9314-C3D31BC1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C3708-C5CF-4BD7-A325-ACD74943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B6A45-922C-4B70-AB9E-4B5F83E1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D29EB-A8FA-4ECD-B3FE-4132BC2E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0A5BF-0034-4834-B243-552D02B0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E5894-C66E-43F9-AECB-F8E82071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F9C47-82EF-42F4-A56B-F8105863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F58C0-538B-469C-A2BA-EE87405DB9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19479B-6CEE-42E4-8CC9-C82648C71F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6F8B29-C16D-48D5-A4F6-A66C5210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0D836-9ED8-4236-9EAB-8C711199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6E0083-F57B-4174-83F1-4D1A4757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F00DA2-43D7-45EB-BAA2-4DCC0D55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FE055-B5E6-457B-811D-419D6DCD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A0B7D6-6186-41D0-B026-8E52CA10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13C792-63A4-4580-9130-D158FBDF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EF74E-7C0A-4B56-BD65-BD3A4535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C46F06-CEBB-4CF4-B5DD-BE39EB4D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3AA880-CA02-43A3-AC54-BA8F8442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D9D9B9-3759-47F2-B5C2-F3374AF2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2C7C5C-EC57-4933-A920-23ECA7408B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127C25-9734-4D32-9F96-6F77A810EF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F4133C-6674-4F3C-B341-5DC93DED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E3CF65-D277-49C9-BA08-787EF6E0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891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891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891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891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891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891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891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33C5-6033-4B98-84CF-51E389AA725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20FB-7603-4F88-8E05-520FA049BF6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6772-B126-4CBC-9EED-A3A43FBE7F8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4A8D-2DB6-4E83-BC8D-72A23B8E63F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D51B-C217-4CEF-9570-B22D5AEB66E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C899-D844-4A7C-A89C-A4F88ED7F83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A637-B3A3-4429-91A7-CAC67ED1EC8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C7DE-C3CE-434E-ABB2-382AA71F1CC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1A9A-3CE0-44AF-BEB4-81A0B6B8733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5E0C-995D-4BE0-85B2-3863EBA66B7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DD68-EB67-4A81-B8F0-B46CBED8E2F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7C83-950B-42F5-B123-BF6B7AD9BE6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B016-1329-4B8A-9458-19233166327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D835-54E1-4953-B5BD-065F83E7268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6DBB-8276-45A7-89A6-5D1AAD2047E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0994-D6DE-4CCF-BF3A-383471060D5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1F19-DD00-4CD0-AF24-3B81220FD0A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BAC7-B885-4526-AE9F-0662C10645C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3B81-FC24-43D7-9511-392F5AB831D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E2AC-4B8E-47FF-A35F-C362BA884B0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7BAC-4729-41A9-83F8-378FC34ED32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70FD-2DB1-4CC5-8ADB-CCFB819A18E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1F07-23CF-411B-966F-A73F54A5C2F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DDB9-4E3F-4F11-B407-639665389E0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2C43-16DC-40C4-A768-AECC07A405E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8EE4-99ED-4106-AF8D-771CD15E56B5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F832-6810-47DF-B6C9-1DBD03168D0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7092-9F98-48D7-AB2C-9F79F3B8597B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BFE6-F89B-4650-BEE5-DEECD2C9033B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CE10-7621-449C-88C5-1D94EC6EC3D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993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993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993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994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994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994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994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C07F-B43E-47C1-ADF7-589392C94E4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9AF7-F8F0-4BB8-A1CC-051EE19F367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F0C2-4934-42E8-BEBB-4BEB99F7A98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BE3F-2361-40A2-861B-0D9F21D287A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E409-9755-426C-96CA-308FC241FDF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3DC7-FD18-4FF9-B0B5-433A3546127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4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33793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33794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692360" y="54936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除法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644400" y="1557360"/>
            <a:ext cx="75279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除以整数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个数除以分数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混合运算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TextBox 2"/>
          <p:cNvSpPr/>
          <p:nvPr/>
        </p:nvSpPr>
        <p:spPr>
          <a:xfrm>
            <a:off x="743040" y="22147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明平均每小时走多少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2" name="Rectangle 2"/>
          <p:cNvSpPr/>
          <p:nvPr/>
        </p:nvSpPr>
        <p:spPr>
          <a:xfrm>
            <a:off x="4038480" y="3057480"/>
            <a:ext cx="4896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为什么要把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平均分成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份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3" name="Rectangle 2"/>
          <p:cNvSpPr/>
          <p:nvPr/>
        </p:nvSpPr>
        <p:spPr>
          <a:xfrm>
            <a:off x="4824360" y="3519360"/>
            <a:ext cx="45720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是怎么想到要补充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份的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4" name="Rectangle 2"/>
          <p:cNvSpPr/>
          <p:nvPr/>
        </p:nvSpPr>
        <p:spPr>
          <a:xfrm>
            <a:off x="4824360" y="4162320"/>
            <a:ext cx="4572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部分表示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5" name="Rectangle 2"/>
          <p:cNvSpPr/>
          <p:nvPr/>
        </p:nvSpPr>
        <p:spPr>
          <a:xfrm>
            <a:off x="4824360" y="4614840"/>
            <a:ext cx="4572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能用算式表示出所画的意思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6" name="Rectangle 2"/>
          <p:cNvSpPr/>
          <p:nvPr/>
        </p:nvSpPr>
        <p:spPr>
          <a:xfrm>
            <a:off x="4824360" y="4960800"/>
            <a:ext cx="48294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结合线段图，说说你是怎么计算的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17" name="组合 27655"/>
          <p:cNvGrpSpPr/>
          <p:nvPr/>
        </p:nvGrpSpPr>
        <p:grpSpPr>
          <a:xfrm>
            <a:off x="684360" y="2881440"/>
            <a:ext cx="3249360" cy="2132640"/>
            <a:chOff x="684360" y="2881440"/>
            <a:chExt cx="3249360" cy="2132640"/>
          </a:xfrm>
        </p:grpSpPr>
        <p:grpSp>
          <p:nvGrpSpPr>
            <p:cNvPr id="1818" name="组合 27656"/>
            <p:cNvGrpSpPr/>
            <p:nvPr/>
          </p:nvGrpSpPr>
          <p:grpSpPr>
            <a:xfrm>
              <a:off x="693360" y="4024440"/>
              <a:ext cx="3239640" cy="81000"/>
              <a:chOff x="693360" y="4024440"/>
              <a:chExt cx="3239640" cy="81000"/>
            </a:xfrm>
          </p:grpSpPr>
          <p:sp>
            <p:nvSpPr>
              <p:cNvPr id="1819" name="直接连接符 27657"/>
              <p:cNvSpPr/>
              <p:nvPr/>
            </p:nvSpPr>
            <p:spPr>
              <a:xfrm>
                <a:off x="693360" y="4033800"/>
                <a:ext cx="0" cy="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820" name="组合 27658"/>
              <p:cNvGrpSpPr/>
              <p:nvPr/>
            </p:nvGrpSpPr>
            <p:grpSpPr>
              <a:xfrm>
                <a:off x="1769400" y="4024440"/>
                <a:ext cx="2163600" cy="81000"/>
                <a:chOff x="1769400" y="4024440"/>
                <a:chExt cx="2163600" cy="81000"/>
              </a:xfrm>
            </p:grpSpPr>
            <p:sp>
              <p:nvSpPr>
                <p:cNvPr id="1821" name="直接连接符 27659"/>
                <p:cNvSpPr/>
                <p:nvPr/>
              </p:nvSpPr>
              <p:spPr>
                <a:xfrm>
                  <a:off x="3933000" y="4033800"/>
                  <a:ext cx="0" cy="71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822" name="组合 27660"/>
                <p:cNvGrpSpPr/>
                <p:nvPr/>
              </p:nvGrpSpPr>
              <p:grpSpPr>
                <a:xfrm>
                  <a:off x="1769400" y="4024440"/>
                  <a:ext cx="1083960" cy="71280"/>
                  <a:chOff x="1769400" y="4024440"/>
                  <a:chExt cx="1083960" cy="71280"/>
                </a:xfrm>
              </p:grpSpPr>
              <p:sp>
                <p:nvSpPr>
                  <p:cNvPr id="1823" name="直接连接符 27661"/>
                  <p:cNvSpPr/>
                  <p:nvPr/>
                </p:nvSpPr>
                <p:spPr>
                  <a:xfrm>
                    <a:off x="2853360" y="40244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24" name="直接连接符 27662"/>
                  <p:cNvSpPr/>
                  <p:nvPr/>
                </p:nvSpPr>
                <p:spPr>
                  <a:xfrm>
                    <a:off x="1769400" y="40244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25" name="组合 27663"/>
            <p:cNvGrpSpPr/>
            <p:nvPr/>
          </p:nvGrpSpPr>
          <p:grpSpPr>
            <a:xfrm>
              <a:off x="684360" y="2881440"/>
              <a:ext cx="3249360" cy="2132640"/>
              <a:chOff x="684360" y="2881440"/>
              <a:chExt cx="3249360" cy="2132640"/>
            </a:xfrm>
          </p:grpSpPr>
          <p:sp>
            <p:nvSpPr>
              <p:cNvPr id="1826" name="左大括号 27664"/>
              <p:cNvSpPr/>
              <p:nvPr/>
            </p:nvSpPr>
            <p:spPr>
              <a:xfrm rot="16200000">
                <a:off x="1703160" y="3112560"/>
                <a:ext cx="142920" cy="2159280"/>
              </a:xfrm>
              <a:custGeom>
                <a:avLst/>
                <a:gdLst>
                  <a:gd name="textAreaLeft" fmla="*/ 91440 w 142920"/>
                  <a:gd name="textAreaRight" fmla="*/ 143280 w 142920"/>
                  <a:gd name="textAreaTop" fmla="*/ 56160 h 2159280"/>
                  <a:gd name="textAreaBottom" fmla="*/ 2103120 h 215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27" name="直接连接符 27665"/>
              <p:cNvSpPr/>
              <p:nvPr/>
            </p:nvSpPr>
            <p:spPr>
              <a:xfrm>
                <a:off x="695160" y="4095720"/>
                <a:ext cx="3238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28" name="左大括号 27666"/>
              <p:cNvSpPr/>
              <p:nvPr/>
            </p:nvSpPr>
            <p:spPr>
              <a:xfrm flipV="1" rot="5400000">
                <a:off x="1703160" y="2829240"/>
                <a:ext cx="142920" cy="2159280"/>
              </a:xfrm>
              <a:custGeom>
                <a:avLst/>
                <a:gdLst>
                  <a:gd name="textAreaLeft" fmla="*/ 91440 w 142920"/>
                  <a:gd name="textAreaRight" fmla="*/ 143280 w 142920"/>
                  <a:gd name="textAreaTop" fmla="*/ 56160 h 2159280"/>
                  <a:gd name="textAreaBottom" fmla="*/ 2103120 h 215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29" name="矩形 27667"/>
              <p:cNvSpPr/>
              <p:nvPr/>
            </p:nvSpPr>
            <p:spPr>
              <a:xfrm>
                <a:off x="1492560" y="4187880"/>
                <a:ext cx="612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km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830" name="组合 27668"/>
              <p:cNvGrpSpPr/>
              <p:nvPr/>
            </p:nvGrpSpPr>
            <p:grpSpPr>
              <a:xfrm>
                <a:off x="1487520" y="3232080"/>
                <a:ext cx="511200" cy="726120"/>
                <a:chOff x="1487520" y="3232080"/>
                <a:chExt cx="511200" cy="726120"/>
              </a:xfrm>
            </p:grpSpPr>
            <p:sp>
              <p:nvSpPr>
                <p:cNvPr id="1831" name="文本框 27669"/>
                <p:cNvSpPr/>
                <p:nvPr/>
              </p:nvSpPr>
              <p:spPr>
                <a:xfrm>
                  <a:off x="1494000" y="353520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32" name="文本框 27670"/>
                <p:cNvSpPr/>
                <p:nvPr/>
              </p:nvSpPr>
              <p:spPr>
                <a:xfrm>
                  <a:off x="1487520" y="323208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33" name="直接连接符 27671"/>
                <p:cNvSpPr/>
                <p:nvPr/>
              </p:nvSpPr>
              <p:spPr>
                <a:xfrm>
                  <a:off x="1503360" y="361800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834" name="文本框 27672"/>
              <p:cNvSpPr/>
              <p:nvPr/>
            </p:nvSpPr>
            <p:spPr>
              <a:xfrm>
                <a:off x="1766880" y="3376800"/>
                <a:ext cx="7192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8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小时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5" name="左大括号 27673"/>
              <p:cNvSpPr/>
              <p:nvPr/>
            </p:nvSpPr>
            <p:spPr>
              <a:xfrm rot="16200000">
                <a:off x="2242800" y="2980800"/>
                <a:ext cx="142920" cy="3238560"/>
              </a:xfrm>
              <a:custGeom>
                <a:avLst/>
                <a:gdLst>
                  <a:gd name="textAreaLeft" fmla="*/ 91440 w 142920"/>
                  <a:gd name="textAreaRight" fmla="*/ 143280 w 142920"/>
                  <a:gd name="textAreaTop" fmla="*/ 84240 h 3238560"/>
                  <a:gd name="textAreaBottom" fmla="*/ 3154320 h 323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6" name="文本框 27674"/>
              <p:cNvSpPr/>
              <p:nvPr/>
            </p:nvSpPr>
            <p:spPr>
              <a:xfrm>
                <a:off x="1774800" y="4591080"/>
                <a:ext cx="1798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8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走多少</a:t>
                </a: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km</a:t>
                </a:r>
                <a:r>
                  <a:rPr b="0" i="1" lang="zh-CN" sz="18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？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7" name="左大括号 27675"/>
              <p:cNvSpPr/>
              <p:nvPr/>
            </p:nvSpPr>
            <p:spPr>
              <a:xfrm flipV="1" rot="5400000">
                <a:off x="2232000" y="1673280"/>
                <a:ext cx="154080" cy="3249360"/>
              </a:xfrm>
              <a:custGeom>
                <a:avLst/>
                <a:gdLst>
                  <a:gd name="textAreaLeft" fmla="*/ 98640 w 154080"/>
                  <a:gd name="textAreaRight" fmla="*/ 154440 w 154080"/>
                  <a:gd name="textAreaTop" fmla="*/ 84600 h 3249360"/>
                  <a:gd name="textAreaBottom" fmla="*/ 3164760 h 324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8" name="文本框 27676"/>
              <p:cNvSpPr/>
              <p:nvPr/>
            </p:nvSpPr>
            <p:spPr>
              <a:xfrm>
                <a:off x="1919160" y="2881440"/>
                <a:ext cx="1224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r>
                  <a:rPr b="0" i="1" lang="zh-CN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小时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839" name="组合 27677"/>
          <p:cNvGrpSpPr/>
          <p:nvPr/>
        </p:nvGrpSpPr>
        <p:grpSpPr>
          <a:xfrm>
            <a:off x="4371840" y="1916280"/>
            <a:ext cx="4953240" cy="1159560"/>
            <a:chOff x="4371840" y="1916280"/>
            <a:chExt cx="4953240" cy="1159560"/>
          </a:xfrm>
        </p:grpSpPr>
        <p:grpSp>
          <p:nvGrpSpPr>
            <p:cNvPr id="1840" name="组合 27678"/>
            <p:cNvGrpSpPr/>
            <p:nvPr/>
          </p:nvGrpSpPr>
          <p:grpSpPr>
            <a:xfrm>
              <a:off x="4371840" y="1989000"/>
              <a:ext cx="4953240" cy="835200"/>
              <a:chOff x="4371840" y="1989000"/>
              <a:chExt cx="4953240" cy="835200"/>
            </a:xfrm>
          </p:grpSpPr>
          <p:grpSp>
            <p:nvGrpSpPr>
              <p:cNvPr id="1841" name="组合 27679"/>
              <p:cNvGrpSpPr/>
              <p:nvPr/>
            </p:nvGrpSpPr>
            <p:grpSpPr>
              <a:xfrm>
                <a:off x="4832280" y="2009160"/>
                <a:ext cx="511200" cy="815040"/>
                <a:chOff x="4832280" y="2009160"/>
                <a:chExt cx="511200" cy="815040"/>
              </a:xfrm>
            </p:grpSpPr>
            <p:sp>
              <p:nvSpPr>
                <p:cNvPr id="1842" name="文本框 27680"/>
                <p:cNvSpPr/>
                <p:nvPr/>
              </p:nvSpPr>
              <p:spPr>
                <a:xfrm>
                  <a:off x="4838760" y="23644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43" name="文本框 27681"/>
                <p:cNvSpPr/>
                <p:nvPr/>
              </p:nvSpPr>
              <p:spPr>
                <a:xfrm>
                  <a:off x="4832280" y="20091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44" name="直接连接符 27682"/>
                <p:cNvSpPr/>
                <p:nvPr/>
              </p:nvSpPr>
              <p:spPr>
                <a:xfrm>
                  <a:off x="4848120" y="242820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845" name="文本框 27683"/>
              <p:cNvSpPr/>
              <p:nvPr/>
            </p:nvSpPr>
            <p:spPr>
              <a:xfrm>
                <a:off x="4371840" y="2179080"/>
                <a:ext cx="495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÷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 ×    ×3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×  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（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宋体"/>
                  </a:rPr>
                  <a:t>km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）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846" name="组合 27684"/>
              <p:cNvGrpSpPr/>
              <p:nvPr/>
            </p:nvGrpSpPr>
            <p:grpSpPr>
              <a:xfrm>
                <a:off x="7157880" y="1998000"/>
                <a:ext cx="511200" cy="815040"/>
                <a:chOff x="7157880" y="1998000"/>
                <a:chExt cx="511200" cy="815040"/>
              </a:xfrm>
            </p:grpSpPr>
            <p:sp>
              <p:nvSpPr>
                <p:cNvPr id="1847" name="文本框 27685"/>
                <p:cNvSpPr/>
                <p:nvPr/>
              </p:nvSpPr>
              <p:spPr>
                <a:xfrm>
                  <a:off x="7164360" y="23533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48" name="文本框 27686"/>
                <p:cNvSpPr/>
                <p:nvPr/>
              </p:nvSpPr>
              <p:spPr>
                <a:xfrm>
                  <a:off x="7157880" y="19980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49" name="直接连接符 27687"/>
                <p:cNvSpPr/>
                <p:nvPr/>
              </p:nvSpPr>
              <p:spPr>
                <a:xfrm>
                  <a:off x="7173720" y="24170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850" name="组合 27688"/>
              <p:cNvGrpSpPr/>
              <p:nvPr/>
            </p:nvGrpSpPr>
            <p:grpSpPr>
              <a:xfrm>
                <a:off x="5797440" y="1989000"/>
                <a:ext cx="511200" cy="815040"/>
                <a:chOff x="5797440" y="1989000"/>
                <a:chExt cx="511200" cy="815040"/>
              </a:xfrm>
            </p:grpSpPr>
            <p:sp>
              <p:nvSpPr>
                <p:cNvPr id="1851" name="文本框 27689"/>
                <p:cNvSpPr/>
                <p:nvPr/>
              </p:nvSpPr>
              <p:spPr>
                <a:xfrm>
                  <a:off x="5803920" y="23443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52" name="文本框 27690"/>
                <p:cNvSpPr/>
                <p:nvPr/>
              </p:nvSpPr>
              <p:spPr>
                <a:xfrm>
                  <a:off x="5797440" y="19890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53" name="直接连接符 27691"/>
                <p:cNvSpPr/>
                <p:nvPr/>
              </p:nvSpPr>
              <p:spPr>
                <a:xfrm>
                  <a:off x="5813280" y="24080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1854" name="组合 27692"/>
            <p:cNvGrpSpPr/>
            <p:nvPr/>
          </p:nvGrpSpPr>
          <p:grpSpPr>
            <a:xfrm>
              <a:off x="6680160" y="1916280"/>
              <a:ext cx="773280" cy="1159560"/>
              <a:chOff x="6680160" y="1916280"/>
              <a:chExt cx="773280" cy="1159560"/>
            </a:xfrm>
          </p:grpSpPr>
          <p:sp>
            <p:nvSpPr>
              <p:cNvPr id="1855" name="直接连接符 27693"/>
              <p:cNvSpPr/>
              <p:nvPr/>
            </p:nvSpPr>
            <p:spPr>
              <a:xfrm>
                <a:off x="6751440" y="2295360"/>
                <a:ext cx="217800" cy="215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6" name="直接连接符 27694"/>
              <p:cNvSpPr/>
              <p:nvPr/>
            </p:nvSpPr>
            <p:spPr>
              <a:xfrm>
                <a:off x="7226280" y="2511360"/>
                <a:ext cx="217440" cy="215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7" name="文本框 27695"/>
              <p:cNvSpPr/>
              <p:nvPr/>
            </p:nvSpPr>
            <p:spPr>
              <a:xfrm>
                <a:off x="6680160" y="1916280"/>
                <a:ext cx="28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8" name="文本框 27696"/>
              <p:cNvSpPr/>
              <p:nvPr/>
            </p:nvSpPr>
            <p:spPr>
              <a:xfrm>
                <a:off x="7164360" y="2616120"/>
                <a:ext cx="28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859" name="TextBox 50"/>
          <p:cNvSpPr/>
          <p:nvPr/>
        </p:nvSpPr>
        <p:spPr>
          <a:xfrm>
            <a:off x="396720" y="1413000"/>
            <a:ext cx="576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自主操作，深入理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0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、教学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个数除以分数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1" name="ShockwaveFlash1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1862" name="图片 28674" descr=""/>
          <p:cNvPicPr/>
          <p:nvPr/>
        </p:nvPicPr>
        <p:blipFill>
          <a:blip r:embed="rId2"/>
          <a:stretch/>
        </p:blipFill>
        <p:spPr>
          <a:xfrm>
            <a:off x="357120" y="276120"/>
            <a:ext cx="8372520" cy="626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Rectangle 2"/>
          <p:cNvSpPr/>
          <p:nvPr/>
        </p:nvSpPr>
        <p:spPr>
          <a:xfrm>
            <a:off x="500040" y="4087800"/>
            <a:ext cx="8001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红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时走多少千米呢？根据信息和问题，画出线段图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4" name="Rectangle 2"/>
          <p:cNvSpPr/>
          <p:nvPr/>
        </p:nvSpPr>
        <p:spPr>
          <a:xfrm>
            <a:off x="1285920" y="4441680"/>
            <a:ext cx="678636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根据线段图，列式并计算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5" name="Rectangle 2"/>
          <p:cNvSpPr/>
          <p:nvPr/>
        </p:nvSpPr>
        <p:spPr>
          <a:xfrm>
            <a:off x="1285920" y="5354640"/>
            <a:ext cx="6786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请你比较，谁走得快些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66" name="图片 29700" descr="32"/>
          <p:cNvPicPr/>
          <p:nvPr/>
        </p:nvPicPr>
        <p:blipFill>
          <a:blip r:embed="rId1"/>
          <a:stretch/>
        </p:blipFill>
        <p:spPr>
          <a:xfrm>
            <a:off x="1314360" y="2131920"/>
            <a:ext cx="3346560" cy="2160720"/>
          </a:xfrm>
          <a:prstGeom prst="rect">
            <a:avLst/>
          </a:prstGeom>
          <a:ln w="0">
            <a:noFill/>
          </a:ln>
        </p:spPr>
      </p:pic>
      <p:grpSp>
        <p:nvGrpSpPr>
          <p:cNvPr id="1867" name="组合 29701"/>
          <p:cNvGrpSpPr/>
          <p:nvPr/>
        </p:nvGrpSpPr>
        <p:grpSpPr>
          <a:xfrm>
            <a:off x="1274760" y="3170160"/>
            <a:ext cx="8399520" cy="3425760"/>
            <a:chOff x="1274760" y="3170160"/>
            <a:chExt cx="8399520" cy="3425760"/>
          </a:xfrm>
        </p:grpSpPr>
        <p:sp>
          <p:nvSpPr>
            <p:cNvPr id="1868" name="Rectangle 2"/>
            <p:cNvSpPr/>
            <p:nvPr/>
          </p:nvSpPr>
          <p:spPr>
            <a:xfrm>
              <a:off x="1274760" y="5886360"/>
              <a:ext cx="7572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5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观察上面两个算式的计算，你发现了什么？（一个数除以分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数，等于乘这个分数的倒数。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69" name="组合 29703"/>
            <p:cNvGrpSpPr/>
            <p:nvPr/>
          </p:nvGrpSpPr>
          <p:grpSpPr>
            <a:xfrm>
              <a:off x="4721040" y="3170160"/>
              <a:ext cx="4953240" cy="1159560"/>
              <a:chOff x="4721040" y="3170160"/>
              <a:chExt cx="4953240" cy="1159560"/>
            </a:xfrm>
          </p:grpSpPr>
          <p:grpSp>
            <p:nvGrpSpPr>
              <p:cNvPr id="1870" name="组合 29704"/>
              <p:cNvGrpSpPr/>
              <p:nvPr/>
            </p:nvGrpSpPr>
            <p:grpSpPr>
              <a:xfrm>
                <a:off x="4721040" y="3242880"/>
                <a:ext cx="4953240" cy="835200"/>
                <a:chOff x="4721040" y="3242880"/>
                <a:chExt cx="4953240" cy="835200"/>
              </a:xfrm>
            </p:grpSpPr>
            <p:grpSp>
              <p:nvGrpSpPr>
                <p:cNvPr id="1871" name="组合 29705"/>
                <p:cNvGrpSpPr/>
                <p:nvPr/>
              </p:nvGrpSpPr>
              <p:grpSpPr>
                <a:xfrm>
                  <a:off x="5181480" y="3263040"/>
                  <a:ext cx="511200" cy="815040"/>
                  <a:chOff x="5181480" y="3263040"/>
                  <a:chExt cx="511200" cy="815040"/>
                </a:xfrm>
              </p:grpSpPr>
              <p:sp>
                <p:nvSpPr>
                  <p:cNvPr id="1872" name="文本框 29706"/>
                  <p:cNvSpPr/>
                  <p:nvPr/>
                </p:nvSpPr>
                <p:spPr>
                  <a:xfrm>
                    <a:off x="5187960" y="36183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73" name="文本框 29707"/>
                  <p:cNvSpPr/>
                  <p:nvPr/>
                </p:nvSpPr>
                <p:spPr>
                  <a:xfrm>
                    <a:off x="5181480" y="326304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74" name="直接连接符 29708"/>
                  <p:cNvSpPr/>
                  <p:nvPr/>
                </p:nvSpPr>
                <p:spPr>
                  <a:xfrm>
                    <a:off x="5197320" y="368208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875" name="文本框 29709"/>
                <p:cNvSpPr/>
                <p:nvPr/>
              </p:nvSpPr>
              <p:spPr>
                <a:xfrm>
                  <a:off x="4721040" y="3432960"/>
                  <a:ext cx="4953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÷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 ×    ×3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×  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（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宋体"/>
                    </a:rPr>
                    <a:t>km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）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 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876" name="组合 29710"/>
                <p:cNvGrpSpPr/>
                <p:nvPr/>
              </p:nvGrpSpPr>
              <p:grpSpPr>
                <a:xfrm>
                  <a:off x="7507080" y="3251880"/>
                  <a:ext cx="511200" cy="815040"/>
                  <a:chOff x="7507080" y="3251880"/>
                  <a:chExt cx="511200" cy="815040"/>
                </a:xfrm>
              </p:grpSpPr>
              <p:sp>
                <p:nvSpPr>
                  <p:cNvPr id="1877" name="文本框 29711"/>
                  <p:cNvSpPr/>
                  <p:nvPr/>
                </p:nvSpPr>
                <p:spPr>
                  <a:xfrm>
                    <a:off x="7513560" y="360720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78" name="文本框 29712"/>
                  <p:cNvSpPr/>
                  <p:nvPr/>
                </p:nvSpPr>
                <p:spPr>
                  <a:xfrm>
                    <a:off x="7507080" y="325188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79" name="直接连接符 29713"/>
                  <p:cNvSpPr/>
                  <p:nvPr/>
                </p:nvSpPr>
                <p:spPr>
                  <a:xfrm>
                    <a:off x="7522920" y="367092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880" name="组合 29714"/>
                <p:cNvGrpSpPr/>
                <p:nvPr/>
              </p:nvGrpSpPr>
              <p:grpSpPr>
                <a:xfrm>
                  <a:off x="6146640" y="3242880"/>
                  <a:ext cx="511200" cy="815040"/>
                  <a:chOff x="6146640" y="3242880"/>
                  <a:chExt cx="511200" cy="815040"/>
                </a:xfrm>
              </p:grpSpPr>
              <p:sp>
                <p:nvSpPr>
                  <p:cNvPr id="1881" name="文本框 29715"/>
                  <p:cNvSpPr/>
                  <p:nvPr/>
                </p:nvSpPr>
                <p:spPr>
                  <a:xfrm>
                    <a:off x="6153120" y="359820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82" name="文本框 29716"/>
                  <p:cNvSpPr/>
                  <p:nvPr/>
                </p:nvSpPr>
                <p:spPr>
                  <a:xfrm>
                    <a:off x="6146640" y="324288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83" name="直接连接符 29717"/>
                  <p:cNvSpPr/>
                  <p:nvPr/>
                </p:nvSpPr>
                <p:spPr>
                  <a:xfrm>
                    <a:off x="6162480" y="366192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84" name="组合 29718"/>
              <p:cNvGrpSpPr/>
              <p:nvPr/>
            </p:nvGrpSpPr>
            <p:grpSpPr>
              <a:xfrm>
                <a:off x="7029360" y="3170160"/>
                <a:ext cx="773280" cy="1159560"/>
                <a:chOff x="7029360" y="3170160"/>
                <a:chExt cx="773280" cy="1159560"/>
              </a:xfrm>
            </p:grpSpPr>
            <p:sp>
              <p:nvSpPr>
                <p:cNvPr id="1885" name="直接连接符 29719"/>
                <p:cNvSpPr/>
                <p:nvPr/>
              </p:nvSpPr>
              <p:spPr>
                <a:xfrm>
                  <a:off x="7100640" y="3549240"/>
                  <a:ext cx="217800" cy="215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86" name="直接连接符 29720"/>
                <p:cNvSpPr/>
                <p:nvPr/>
              </p:nvSpPr>
              <p:spPr>
                <a:xfrm>
                  <a:off x="7575480" y="3765240"/>
                  <a:ext cx="217440" cy="21528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87" name="文本框 29721"/>
                <p:cNvSpPr/>
                <p:nvPr/>
              </p:nvSpPr>
              <p:spPr>
                <a:xfrm>
                  <a:off x="7029360" y="3170160"/>
                  <a:ext cx="289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88" name="文本框 29722"/>
                <p:cNvSpPr/>
                <p:nvPr/>
              </p:nvSpPr>
              <p:spPr>
                <a:xfrm>
                  <a:off x="7513560" y="3870000"/>
                  <a:ext cx="289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1889" name="组合 29723"/>
          <p:cNvGrpSpPr/>
          <p:nvPr/>
        </p:nvGrpSpPr>
        <p:grpSpPr>
          <a:xfrm>
            <a:off x="4788000" y="1989000"/>
            <a:ext cx="3727440" cy="1304280"/>
            <a:chOff x="4788000" y="1989000"/>
            <a:chExt cx="3727440" cy="1304280"/>
          </a:xfrm>
        </p:grpSpPr>
        <p:grpSp>
          <p:nvGrpSpPr>
            <p:cNvPr id="1890" name="组合 29724"/>
            <p:cNvGrpSpPr/>
            <p:nvPr/>
          </p:nvGrpSpPr>
          <p:grpSpPr>
            <a:xfrm>
              <a:off x="4788000" y="2244600"/>
              <a:ext cx="3727440" cy="822960"/>
              <a:chOff x="4788000" y="2244600"/>
              <a:chExt cx="3727440" cy="822960"/>
            </a:xfrm>
          </p:grpSpPr>
          <p:grpSp>
            <p:nvGrpSpPr>
              <p:cNvPr id="1891" name="组合 29725"/>
              <p:cNvGrpSpPr/>
              <p:nvPr/>
            </p:nvGrpSpPr>
            <p:grpSpPr>
              <a:xfrm>
                <a:off x="4788000" y="2244600"/>
                <a:ext cx="3727440" cy="822960"/>
                <a:chOff x="4788000" y="2244600"/>
                <a:chExt cx="3727440" cy="822960"/>
              </a:xfrm>
            </p:grpSpPr>
            <p:sp>
              <p:nvSpPr>
                <p:cNvPr id="1892" name="Rectangle 49"/>
                <p:cNvSpPr/>
                <p:nvPr/>
              </p:nvSpPr>
              <p:spPr>
                <a:xfrm>
                  <a:off x="5073840" y="2347200"/>
                  <a:ext cx="3441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÷  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×   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（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宋体"/>
                    </a:rPr>
                    <a:t>km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）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 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893" name="组合 29727"/>
                <p:cNvGrpSpPr/>
                <p:nvPr/>
              </p:nvGrpSpPr>
              <p:grpSpPr>
                <a:xfrm>
                  <a:off x="4788000" y="2244600"/>
                  <a:ext cx="1082520" cy="822960"/>
                  <a:chOff x="4788000" y="2244600"/>
                  <a:chExt cx="1082520" cy="822960"/>
                </a:xfrm>
              </p:grpSpPr>
              <p:grpSp>
                <p:nvGrpSpPr>
                  <p:cNvPr id="1894" name="组合 29728"/>
                  <p:cNvGrpSpPr/>
                  <p:nvPr/>
                </p:nvGrpSpPr>
                <p:grpSpPr>
                  <a:xfrm>
                    <a:off x="5365800" y="2244600"/>
                    <a:ext cx="504720" cy="797760"/>
                    <a:chOff x="5365800" y="2244600"/>
                    <a:chExt cx="504720" cy="797760"/>
                  </a:xfrm>
                </p:grpSpPr>
                <p:sp>
                  <p:nvSpPr>
                    <p:cNvPr id="1895" name="文本框 29729"/>
                    <p:cNvSpPr/>
                    <p:nvPr/>
                  </p:nvSpPr>
                  <p:spPr>
                    <a:xfrm>
                      <a:off x="5365800" y="258264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2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96" name="文本框 29730"/>
                    <p:cNvSpPr/>
                    <p:nvPr/>
                  </p:nvSpPr>
                  <p:spPr>
                    <a:xfrm>
                      <a:off x="5448240" y="2244600"/>
                      <a:ext cx="360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5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97" name="直接连接符 29731"/>
                    <p:cNvSpPr/>
                    <p:nvPr/>
                  </p:nvSpPr>
                  <p:spPr>
                    <a:xfrm>
                      <a:off x="5464440" y="2663640"/>
                      <a:ext cx="2872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8" name="组合 29732"/>
                  <p:cNvGrpSpPr/>
                  <p:nvPr/>
                </p:nvGrpSpPr>
                <p:grpSpPr>
                  <a:xfrm>
                    <a:off x="4788000" y="2252520"/>
                    <a:ext cx="511200" cy="815040"/>
                    <a:chOff x="4788000" y="2252520"/>
                    <a:chExt cx="511200" cy="815040"/>
                  </a:xfrm>
                </p:grpSpPr>
                <p:sp>
                  <p:nvSpPr>
                    <p:cNvPr id="1899" name="文本框 29733"/>
                    <p:cNvSpPr/>
                    <p:nvPr/>
                  </p:nvSpPr>
                  <p:spPr>
                    <a:xfrm>
                      <a:off x="4794480" y="2607840"/>
                      <a:ext cx="5047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6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900" name="文本框 29734"/>
                    <p:cNvSpPr/>
                    <p:nvPr/>
                  </p:nvSpPr>
                  <p:spPr>
                    <a:xfrm>
                      <a:off x="4788000" y="2252520"/>
                      <a:ext cx="36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5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901" name="直接连接符 29735"/>
                    <p:cNvSpPr/>
                    <p:nvPr/>
                  </p:nvSpPr>
                  <p:spPr>
                    <a:xfrm>
                      <a:off x="4803840" y="2671560"/>
                      <a:ext cx="28764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02" name="组合 29736"/>
                <p:cNvGrpSpPr/>
                <p:nvPr/>
              </p:nvGrpSpPr>
              <p:grpSpPr>
                <a:xfrm>
                  <a:off x="6010200" y="2247840"/>
                  <a:ext cx="511200" cy="815040"/>
                  <a:chOff x="6010200" y="2247840"/>
                  <a:chExt cx="511200" cy="815040"/>
                </a:xfrm>
              </p:grpSpPr>
              <p:sp>
                <p:nvSpPr>
                  <p:cNvPr id="1903" name="文本框 29737"/>
                  <p:cNvSpPr/>
                  <p:nvPr/>
                </p:nvSpPr>
                <p:spPr>
                  <a:xfrm>
                    <a:off x="6016680" y="26031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6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04" name="文本框 29738"/>
                  <p:cNvSpPr/>
                  <p:nvPr/>
                </p:nvSpPr>
                <p:spPr>
                  <a:xfrm>
                    <a:off x="6010200" y="224784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05" name="直接连接符 29739"/>
                  <p:cNvSpPr/>
                  <p:nvPr/>
                </p:nvSpPr>
                <p:spPr>
                  <a:xfrm>
                    <a:off x="6026040" y="266688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906" name="组合 29740"/>
                <p:cNvGrpSpPr/>
                <p:nvPr/>
              </p:nvGrpSpPr>
              <p:grpSpPr>
                <a:xfrm>
                  <a:off x="6526440" y="2249280"/>
                  <a:ext cx="586800" cy="815400"/>
                  <a:chOff x="6526440" y="2249280"/>
                  <a:chExt cx="586800" cy="815400"/>
                </a:xfrm>
              </p:grpSpPr>
              <p:sp>
                <p:nvSpPr>
                  <p:cNvPr id="1907" name="文本框 29741"/>
                  <p:cNvSpPr/>
                  <p:nvPr/>
                </p:nvSpPr>
                <p:spPr>
                  <a:xfrm>
                    <a:off x="6608520" y="26049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08" name="文本框 29742"/>
                  <p:cNvSpPr/>
                  <p:nvPr/>
                </p:nvSpPr>
                <p:spPr>
                  <a:xfrm>
                    <a:off x="6526440" y="2249280"/>
                    <a:ext cx="580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09" name="直接连接符 29743"/>
                  <p:cNvSpPr/>
                  <p:nvPr/>
                </p:nvSpPr>
                <p:spPr>
                  <a:xfrm>
                    <a:off x="6589440" y="26683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sp>
            <p:nvSpPr>
              <p:cNvPr id="1910" name="直接连接符 29744"/>
              <p:cNvSpPr/>
              <p:nvPr/>
            </p:nvSpPr>
            <p:spPr>
              <a:xfrm>
                <a:off x="6031080" y="2392200"/>
                <a:ext cx="288720" cy="216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11" name="直接连接符 29745"/>
              <p:cNvSpPr/>
              <p:nvPr/>
            </p:nvSpPr>
            <p:spPr>
              <a:xfrm>
                <a:off x="6626160" y="2757600"/>
                <a:ext cx="289080" cy="215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12" name="直接连接符 29746"/>
              <p:cNvSpPr/>
              <p:nvPr/>
            </p:nvSpPr>
            <p:spPr>
              <a:xfrm>
                <a:off x="6031080" y="2752560"/>
                <a:ext cx="288720" cy="216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13" name="直接连接符 29747"/>
              <p:cNvSpPr/>
              <p:nvPr/>
            </p:nvSpPr>
            <p:spPr>
              <a:xfrm>
                <a:off x="6607440" y="2392200"/>
                <a:ext cx="288720" cy="216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914" name="文本框 29748"/>
            <p:cNvSpPr/>
            <p:nvPr/>
          </p:nvSpPr>
          <p:spPr>
            <a:xfrm>
              <a:off x="5988240" y="1998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15" name="文本框 29749"/>
            <p:cNvSpPr/>
            <p:nvPr/>
          </p:nvSpPr>
          <p:spPr>
            <a:xfrm>
              <a:off x="6597720" y="1989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16" name="文本框 29750"/>
            <p:cNvSpPr/>
            <p:nvPr/>
          </p:nvSpPr>
          <p:spPr>
            <a:xfrm>
              <a:off x="6031080" y="2833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17" name="文本框 29751"/>
            <p:cNvSpPr/>
            <p:nvPr/>
          </p:nvSpPr>
          <p:spPr>
            <a:xfrm>
              <a:off x="6607440" y="28288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18" name="组合 29752"/>
          <p:cNvGrpSpPr/>
          <p:nvPr/>
        </p:nvGrpSpPr>
        <p:grpSpPr>
          <a:xfrm>
            <a:off x="1285920" y="4840200"/>
            <a:ext cx="7500960" cy="815400"/>
            <a:chOff x="1285920" y="4840200"/>
            <a:chExt cx="7500960" cy="815400"/>
          </a:xfrm>
        </p:grpSpPr>
        <p:sp>
          <p:nvSpPr>
            <p:cNvPr id="1919" name="Rectangle 2"/>
            <p:cNvSpPr/>
            <p:nvPr/>
          </p:nvSpPr>
          <p:spPr>
            <a:xfrm>
              <a:off x="1285920" y="4910040"/>
              <a:ext cx="75009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.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这一步你是怎样想的，结合线段图说一说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920" name="组合 29754"/>
            <p:cNvGrpSpPr/>
            <p:nvPr/>
          </p:nvGrpSpPr>
          <p:grpSpPr>
            <a:xfrm>
              <a:off x="2160720" y="4840200"/>
              <a:ext cx="586800" cy="815400"/>
              <a:chOff x="2160720" y="4840200"/>
              <a:chExt cx="586800" cy="815400"/>
            </a:xfrm>
          </p:grpSpPr>
          <p:sp>
            <p:nvSpPr>
              <p:cNvPr id="1921" name="文本框 29755"/>
              <p:cNvSpPr/>
              <p:nvPr/>
            </p:nvSpPr>
            <p:spPr>
              <a:xfrm>
                <a:off x="2242800" y="5195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22" name="文本框 29756"/>
              <p:cNvSpPr/>
              <p:nvPr/>
            </p:nvSpPr>
            <p:spPr>
              <a:xfrm>
                <a:off x="2160720" y="4840200"/>
                <a:ext cx="580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23" name="直接连接符 29757"/>
              <p:cNvSpPr/>
              <p:nvPr/>
            </p:nvSpPr>
            <p:spPr>
              <a:xfrm>
                <a:off x="2223720" y="52592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924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、教学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个数除以分数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5" name="TextBox 50"/>
          <p:cNvSpPr/>
          <p:nvPr/>
        </p:nvSpPr>
        <p:spPr>
          <a:xfrm>
            <a:off x="396720" y="1413000"/>
            <a:ext cx="576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自主操作，深入理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TextBox 50"/>
          <p:cNvSpPr/>
          <p:nvPr/>
        </p:nvSpPr>
        <p:spPr>
          <a:xfrm>
            <a:off x="395280" y="1413000"/>
            <a:ext cx="576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三）巩固练习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7" name="矩形 30722"/>
          <p:cNvSpPr/>
          <p:nvPr/>
        </p:nvSpPr>
        <p:spPr>
          <a:xfrm>
            <a:off x="1332000" y="2276640"/>
            <a:ext cx="60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计算下面各题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8" name="文本框 30723"/>
          <p:cNvSpPr/>
          <p:nvPr/>
        </p:nvSpPr>
        <p:spPr>
          <a:xfrm>
            <a:off x="5219640" y="2421000"/>
            <a:ext cx="279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29" name="组合 30724"/>
          <p:cNvGrpSpPr/>
          <p:nvPr/>
        </p:nvGrpSpPr>
        <p:grpSpPr>
          <a:xfrm>
            <a:off x="1636560" y="2760840"/>
            <a:ext cx="4141800" cy="824400"/>
            <a:chOff x="1636560" y="2760840"/>
            <a:chExt cx="4141800" cy="824400"/>
          </a:xfrm>
        </p:grpSpPr>
        <p:grpSp>
          <p:nvGrpSpPr>
            <p:cNvPr id="1930" name="组合 30725"/>
            <p:cNvGrpSpPr/>
            <p:nvPr/>
          </p:nvGrpSpPr>
          <p:grpSpPr>
            <a:xfrm>
              <a:off x="1636560" y="2760840"/>
              <a:ext cx="1782720" cy="815040"/>
              <a:chOff x="1636560" y="2760840"/>
              <a:chExt cx="1782720" cy="815040"/>
            </a:xfrm>
          </p:grpSpPr>
          <p:grpSp>
            <p:nvGrpSpPr>
              <p:cNvPr id="1931" name="组合 30726"/>
              <p:cNvGrpSpPr/>
              <p:nvPr/>
            </p:nvGrpSpPr>
            <p:grpSpPr>
              <a:xfrm>
                <a:off x="2338200" y="2760840"/>
                <a:ext cx="511200" cy="815040"/>
                <a:chOff x="2338200" y="2760840"/>
                <a:chExt cx="511200" cy="815040"/>
              </a:xfrm>
            </p:grpSpPr>
            <p:sp>
              <p:nvSpPr>
                <p:cNvPr id="1932" name="文本框 30727"/>
                <p:cNvSpPr/>
                <p:nvPr/>
              </p:nvSpPr>
              <p:spPr>
                <a:xfrm>
                  <a:off x="2344680" y="3116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9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33" name="文本框 30728"/>
                <p:cNvSpPr/>
                <p:nvPr/>
              </p:nvSpPr>
              <p:spPr>
                <a:xfrm>
                  <a:off x="2338200" y="2760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34" name="直接连接符 30729"/>
                <p:cNvSpPr/>
                <p:nvPr/>
              </p:nvSpPr>
              <p:spPr>
                <a:xfrm>
                  <a:off x="2354040" y="31798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935" name="文本框 30730"/>
              <p:cNvSpPr/>
              <p:nvPr/>
            </p:nvSpPr>
            <p:spPr>
              <a:xfrm>
                <a:off x="1636560" y="2938320"/>
                <a:ext cx="178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4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÷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936" name="组合 30731"/>
            <p:cNvGrpSpPr/>
            <p:nvPr/>
          </p:nvGrpSpPr>
          <p:grpSpPr>
            <a:xfrm>
              <a:off x="3613320" y="2762280"/>
              <a:ext cx="1029600" cy="822960"/>
              <a:chOff x="3613320" y="2762280"/>
              <a:chExt cx="1029600" cy="822960"/>
            </a:xfrm>
          </p:grpSpPr>
          <p:grpSp>
            <p:nvGrpSpPr>
              <p:cNvPr id="1937" name="组合 30732"/>
              <p:cNvGrpSpPr/>
              <p:nvPr/>
            </p:nvGrpSpPr>
            <p:grpSpPr>
              <a:xfrm>
                <a:off x="3613320" y="2762280"/>
                <a:ext cx="1029600" cy="822960"/>
                <a:chOff x="3613320" y="2762280"/>
                <a:chExt cx="1029600" cy="822960"/>
              </a:xfrm>
            </p:grpSpPr>
            <p:sp>
              <p:nvSpPr>
                <p:cNvPr id="1938" name="文本框 30733"/>
                <p:cNvSpPr/>
                <p:nvPr/>
              </p:nvSpPr>
              <p:spPr>
                <a:xfrm>
                  <a:off x="3613320" y="3125520"/>
                  <a:ext cx="1020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（   ）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939" name="文本框 30734"/>
                <p:cNvSpPr/>
                <p:nvPr/>
              </p:nvSpPr>
              <p:spPr>
                <a:xfrm>
                  <a:off x="3622320" y="2762280"/>
                  <a:ext cx="1020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（   ）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940" name="直接连接符 30735"/>
              <p:cNvSpPr/>
              <p:nvPr/>
            </p:nvSpPr>
            <p:spPr>
              <a:xfrm>
                <a:off x="3857760" y="3189240"/>
                <a:ext cx="43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941" name="椭圆 30736"/>
            <p:cNvSpPr/>
            <p:nvPr/>
          </p:nvSpPr>
          <p:spPr>
            <a:xfrm>
              <a:off x="3328920" y="2997360"/>
              <a:ext cx="360360" cy="360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42" name="文本框 30737"/>
            <p:cNvSpPr/>
            <p:nvPr/>
          </p:nvSpPr>
          <p:spPr>
            <a:xfrm>
              <a:off x="4265640" y="292428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（  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943" name="文本框 30738"/>
          <p:cNvSpPr/>
          <p:nvPr/>
        </p:nvSpPr>
        <p:spPr>
          <a:xfrm>
            <a:off x="3286080" y="29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×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44" name="组合 30739"/>
          <p:cNvGrpSpPr/>
          <p:nvPr/>
        </p:nvGrpSpPr>
        <p:grpSpPr>
          <a:xfrm>
            <a:off x="3917880" y="2762280"/>
            <a:ext cx="649440" cy="818280"/>
            <a:chOff x="3917880" y="2762280"/>
            <a:chExt cx="649440" cy="818280"/>
          </a:xfrm>
        </p:grpSpPr>
        <p:sp>
          <p:nvSpPr>
            <p:cNvPr id="1945" name="文本框 30740"/>
            <p:cNvSpPr/>
            <p:nvPr/>
          </p:nvSpPr>
          <p:spPr>
            <a:xfrm>
              <a:off x="3917880" y="27622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46" name="文本框 30741"/>
            <p:cNvSpPr/>
            <p:nvPr/>
          </p:nvSpPr>
          <p:spPr>
            <a:xfrm>
              <a:off x="3919320" y="312084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947" name="文本框 30742"/>
          <p:cNvSpPr/>
          <p:nvPr/>
        </p:nvSpPr>
        <p:spPr>
          <a:xfrm>
            <a:off x="4788000" y="29401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27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48" name="组合 30743"/>
          <p:cNvGrpSpPr/>
          <p:nvPr/>
        </p:nvGrpSpPr>
        <p:grpSpPr>
          <a:xfrm>
            <a:off x="1609560" y="3774960"/>
            <a:ext cx="4066920" cy="824760"/>
            <a:chOff x="1609560" y="3774960"/>
            <a:chExt cx="4066920" cy="824760"/>
          </a:xfrm>
        </p:grpSpPr>
        <p:grpSp>
          <p:nvGrpSpPr>
            <p:cNvPr id="1949" name="组合 30744"/>
            <p:cNvGrpSpPr/>
            <p:nvPr/>
          </p:nvGrpSpPr>
          <p:grpSpPr>
            <a:xfrm>
              <a:off x="1609560" y="3774960"/>
              <a:ext cx="4066920" cy="824760"/>
              <a:chOff x="1609560" y="3774960"/>
              <a:chExt cx="4066920" cy="824760"/>
            </a:xfrm>
          </p:grpSpPr>
          <p:grpSp>
            <p:nvGrpSpPr>
              <p:cNvPr id="1950" name="组合 30745"/>
              <p:cNvGrpSpPr/>
              <p:nvPr/>
            </p:nvGrpSpPr>
            <p:grpSpPr>
              <a:xfrm>
                <a:off x="1609560" y="3774960"/>
                <a:ext cx="1878120" cy="815040"/>
                <a:chOff x="1609560" y="3774960"/>
                <a:chExt cx="1878120" cy="815040"/>
              </a:xfrm>
            </p:grpSpPr>
            <p:grpSp>
              <p:nvGrpSpPr>
                <p:cNvPr id="1951" name="组合 30746"/>
                <p:cNvGrpSpPr/>
                <p:nvPr/>
              </p:nvGrpSpPr>
              <p:grpSpPr>
                <a:xfrm>
                  <a:off x="2359080" y="3774960"/>
                  <a:ext cx="511200" cy="815040"/>
                  <a:chOff x="2359080" y="3774960"/>
                  <a:chExt cx="511200" cy="815040"/>
                </a:xfrm>
              </p:grpSpPr>
              <p:sp>
                <p:nvSpPr>
                  <p:cNvPr id="1952" name="文本框 30747"/>
                  <p:cNvSpPr/>
                  <p:nvPr/>
                </p:nvSpPr>
                <p:spPr>
                  <a:xfrm>
                    <a:off x="2365560" y="413028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53" name="文本框 30748"/>
                  <p:cNvSpPr/>
                  <p:nvPr/>
                </p:nvSpPr>
                <p:spPr>
                  <a:xfrm>
                    <a:off x="2359080" y="377496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54" name="直接连接符 30749"/>
                  <p:cNvSpPr/>
                  <p:nvPr/>
                </p:nvSpPr>
                <p:spPr>
                  <a:xfrm>
                    <a:off x="2374920" y="419400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955" name="文本框 30750"/>
                <p:cNvSpPr/>
                <p:nvPr/>
              </p:nvSpPr>
              <p:spPr>
                <a:xfrm>
                  <a:off x="1704960" y="3924000"/>
                  <a:ext cx="1782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÷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956" name="组合 30751"/>
                <p:cNvGrpSpPr/>
                <p:nvPr/>
              </p:nvGrpSpPr>
              <p:grpSpPr>
                <a:xfrm>
                  <a:off x="1609560" y="3774960"/>
                  <a:ext cx="504720" cy="797760"/>
                  <a:chOff x="1609560" y="3774960"/>
                  <a:chExt cx="504720" cy="797760"/>
                </a:xfrm>
              </p:grpSpPr>
              <p:sp>
                <p:nvSpPr>
                  <p:cNvPr id="1957" name="文本框 30752"/>
                  <p:cNvSpPr/>
                  <p:nvPr/>
                </p:nvSpPr>
                <p:spPr>
                  <a:xfrm>
                    <a:off x="1609560" y="411300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6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58" name="文本框 30753"/>
                  <p:cNvSpPr/>
                  <p:nvPr/>
                </p:nvSpPr>
                <p:spPr>
                  <a:xfrm>
                    <a:off x="1692000" y="377496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7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59" name="直接连接符 30754"/>
                  <p:cNvSpPr/>
                  <p:nvPr/>
                </p:nvSpPr>
                <p:spPr>
                  <a:xfrm>
                    <a:off x="1707840" y="4194000"/>
                    <a:ext cx="287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0" name="组合 30755"/>
              <p:cNvGrpSpPr/>
              <p:nvPr/>
            </p:nvGrpSpPr>
            <p:grpSpPr>
              <a:xfrm>
                <a:off x="2770200" y="3774960"/>
                <a:ext cx="1030320" cy="822960"/>
                <a:chOff x="2770200" y="3774960"/>
                <a:chExt cx="1030320" cy="822960"/>
              </a:xfrm>
            </p:grpSpPr>
            <p:grpSp>
              <p:nvGrpSpPr>
                <p:cNvPr id="1961" name="组合 30756"/>
                <p:cNvGrpSpPr/>
                <p:nvPr/>
              </p:nvGrpSpPr>
              <p:grpSpPr>
                <a:xfrm>
                  <a:off x="2770200" y="3774960"/>
                  <a:ext cx="1030320" cy="822960"/>
                  <a:chOff x="2770200" y="3774960"/>
                  <a:chExt cx="1030320" cy="822960"/>
                </a:xfrm>
              </p:grpSpPr>
              <p:sp>
                <p:nvSpPr>
                  <p:cNvPr id="1962" name="文本框 30757"/>
                  <p:cNvSpPr/>
                  <p:nvPr/>
                </p:nvSpPr>
                <p:spPr>
                  <a:xfrm>
                    <a:off x="2770200" y="4138200"/>
                    <a:ext cx="1020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（   ）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963" name="文本框 30758"/>
                  <p:cNvSpPr/>
                  <p:nvPr/>
                </p:nvSpPr>
                <p:spPr>
                  <a:xfrm>
                    <a:off x="2779560" y="3774960"/>
                    <a:ext cx="10209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（   ）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964" name="直接连接符 30759"/>
                <p:cNvSpPr/>
                <p:nvPr/>
              </p:nvSpPr>
              <p:spPr>
                <a:xfrm>
                  <a:off x="3015000" y="4201920"/>
                  <a:ext cx="431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965" name="组合 30760"/>
              <p:cNvGrpSpPr/>
              <p:nvPr/>
            </p:nvGrpSpPr>
            <p:grpSpPr>
              <a:xfrm>
                <a:off x="3781440" y="3774960"/>
                <a:ext cx="1895040" cy="824760"/>
                <a:chOff x="3781440" y="3774960"/>
                <a:chExt cx="1895040" cy="824760"/>
              </a:xfrm>
            </p:grpSpPr>
            <p:grpSp>
              <p:nvGrpSpPr>
                <p:cNvPr id="1966" name="组合 30761"/>
                <p:cNvGrpSpPr/>
                <p:nvPr/>
              </p:nvGrpSpPr>
              <p:grpSpPr>
                <a:xfrm>
                  <a:off x="3781440" y="3776760"/>
                  <a:ext cx="1030320" cy="822960"/>
                  <a:chOff x="3781440" y="3776760"/>
                  <a:chExt cx="1030320" cy="822960"/>
                </a:xfrm>
              </p:grpSpPr>
              <p:grpSp>
                <p:nvGrpSpPr>
                  <p:cNvPr id="1967" name="组合 30762"/>
                  <p:cNvGrpSpPr/>
                  <p:nvPr/>
                </p:nvGrpSpPr>
                <p:grpSpPr>
                  <a:xfrm>
                    <a:off x="3781440" y="3776760"/>
                    <a:ext cx="1030320" cy="822960"/>
                    <a:chOff x="3781440" y="3776760"/>
                    <a:chExt cx="1030320" cy="822960"/>
                  </a:xfrm>
                </p:grpSpPr>
                <p:sp>
                  <p:nvSpPr>
                    <p:cNvPr id="1968" name="文本框 30763"/>
                    <p:cNvSpPr/>
                    <p:nvPr/>
                  </p:nvSpPr>
                  <p:spPr>
                    <a:xfrm>
                      <a:off x="3781440" y="4140000"/>
                      <a:ext cx="1020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（   ）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969" name="文本框 30764"/>
                    <p:cNvSpPr/>
                    <p:nvPr/>
                  </p:nvSpPr>
                  <p:spPr>
                    <a:xfrm>
                      <a:off x="3790800" y="3776760"/>
                      <a:ext cx="10209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（   ）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970" name="直接连接符 30765"/>
                  <p:cNvSpPr/>
                  <p:nvPr/>
                </p:nvSpPr>
                <p:spPr>
                  <a:xfrm>
                    <a:off x="4026240" y="4203720"/>
                    <a:ext cx="43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971" name="组合 30766"/>
                <p:cNvGrpSpPr/>
                <p:nvPr/>
              </p:nvGrpSpPr>
              <p:grpSpPr>
                <a:xfrm>
                  <a:off x="4646880" y="3774960"/>
                  <a:ext cx="1029600" cy="822960"/>
                  <a:chOff x="4646880" y="3774960"/>
                  <a:chExt cx="1029600" cy="822960"/>
                </a:xfrm>
              </p:grpSpPr>
              <p:grpSp>
                <p:nvGrpSpPr>
                  <p:cNvPr id="1972" name="组合 30767"/>
                  <p:cNvGrpSpPr/>
                  <p:nvPr/>
                </p:nvGrpSpPr>
                <p:grpSpPr>
                  <a:xfrm>
                    <a:off x="4646880" y="3774960"/>
                    <a:ext cx="1029600" cy="822960"/>
                    <a:chOff x="4646880" y="3774960"/>
                    <a:chExt cx="1029600" cy="822960"/>
                  </a:xfrm>
                </p:grpSpPr>
                <p:sp>
                  <p:nvSpPr>
                    <p:cNvPr id="1973" name="文本框 30768"/>
                    <p:cNvSpPr/>
                    <p:nvPr/>
                  </p:nvSpPr>
                  <p:spPr>
                    <a:xfrm>
                      <a:off x="4646880" y="4138200"/>
                      <a:ext cx="10202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（   ）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974" name="文本框 30769"/>
                    <p:cNvSpPr/>
                    <p:nvPr/>
                  </p:nvSpPr>
                  <p:spPr>
                    <a:xfrm>
                      <a:off x="4655880" y="3774960"/>
                      <a:ext cx="1020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（   ）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975" name="直接连接符 30770"/>
                  <p:cNvSpPr/>
                  <p:nvPr/>
                </p:nvSpPr>
                <p:spPr>
                  <a:xfrm>
                    <a:off x="4891320" y="4201920"/>
                    <a:ext cx="431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976" name="文本框 30771"/>
                <p:cNvSpPr/>
                <p:nvPr/>
              </p:nvSpPr>
              <p:spPr>
                <a:xfrm>
                  <a:off x="4434120" y="393372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977" name="椭圆 30772"/>
            <p:cNvSpPr/>
            <p:nvPr/>
          </p:nvSpPr>
          <p:spPr>
            <a:xfrm>
              <a:off x="3525840" y="4011480"/>
              <a:ext cx="360360" cy="360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78" name="组合 30773"/>
          <p:cNvGrpSpPr/>
          <p:nvPr/>
        </p:nvGrpSpPr>
        <p:grpSpPr>
          <a:xfrm>
            <a:off x="2997360" y="3784680"/>
            <a:ext cx="647640" cy="818280"/>
            <a:chOff x="2997360" y="3784680"/>
            <a:chExt cx="647640" cy="818280"/>
          </a:xfrm>
        </p:grpSpPr>
        <p:sp>
          <p:nvSpPr>
            <p:cNvPr id="1979" name="文本框 30774"/>
            <p:cNvSpPr/>
            <p:nvPr/>
          </p:nvSpPr>
          <p:spPr>
            <a:xfrm>
              <a:off x="3087720" y="3784680"/>
              <a:ext cx="2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80" name="文本框 30775"/>
            <p:cNvSpPr/>
            <p:nvPr/>
          </p:nvSpPr>
          <p:spPr>
            <a:xfrm>
              <a:off x="2997360" y="41432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81" name="组合 30776"/>
          <p:cNvGrpSpPr/>
          <p:nvPr/>
        </p:nvGrpSpPr>
        <p:grpSpPr>
          <a:xfrm>
            <a:off x="4086360" y="3780000"/>
            <a:ext cx="648720" cy="818280"/>
            <a:chOff x="4086360" y="3780000"/>
            <a:chExt cx="648720" cy="818280"/>
          </a:xfrm>
        </p:grpSpPr>
        <p:sp>
          <p:nvSpPr>
            <p:cNvPr id="1982" name="文本框 30777"/>
            <p:cNvSpPr/>
            <p:nvPr/>
          </p:nvSpPr>
          <p:spPr>
            <a:xfrm>
              <a:off x="4086360" y="3780000"/>
              <a:ext cx="2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83" name="文本框 30778"/>
            <p:cNvSpPr/>
            <p:nvPr/>
          </p:nvSpPr>
          <p:spPr>
            <a:xfrm>
              <a:off x="4087440" y="41385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984" name="文本框 30779"/>
          <p:cNvSpPr/>
          <p:nvPr/>
        </p:nvSpPr>
        <p:spPr>
          <a:xfrm>
            <a:off x="3483000" y="3932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×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85" name="组合 30780"/>
          <p:cNvGrpSpPr/>
          <p:nvPr/>
        </p:nvGrpSpPr>
        <p:grpSpPr>
          <a:xfrm>
            <a:off x="4865760" y="3774960"/>
            <a:ext cx="647640" cy="818640"/>
            <a:chOff x="4865760" y="3774960"/>
            <a:chExt cx="647640" cy="818640"/>
          </a:xfrm>
        </p:grpSpPr>
        <p:sp>
          <p:nvSpPr>
            <p:cNvPr id="1986" name="文本框 30781"/>
            <p:cNvSpPr/>
            <p:nvPr/>
          </p:nvSpPr>
          <p:spPr>
            <a:xfrm>
              <a:off x="4875120" y="3774960"/>
              <a:ext cx="62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87" name="文本框 30782"/>
            <p:cNvSpPr/>
            <p:nvPr/>
          </p:nvSpPr>
          <p:spPr>
            <a:xfrm>
              <a:off x="4865760" y="41338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6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988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、教学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个数除以分数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TextBox 1"/>
          <p:cNvSpPr/>
          <p:nvPr/>
        </p:nvSpPr>
        <p:spPr>
          <a:xfrm>
            <a:off x="395280" y="1413000"/>
            <a:ext cx="5072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理解情境，解决问题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0" name="Rectangle 2"/>
          <p:cNvSpPr/>
          <p:nvPr/>
        </p:nvSpPr>
        <p:spPr>
          <a:xfrm>
            <a:off x="471600" y="42372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四、教学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混合运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1" name="Rectangle 2"/>
          <p:cNvSpPr/>
          <p:nvPr/>
        </p:nvSpPr>
        <p:spPr>
          <a:xfrm>
            <a:off x="1292400" y="5343480"/>
            <a:ext cx="75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出示方法一）谁读懂了它的意思？说一说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2" name="Rectangle 2"/>
          <p:cNvSpPr/>
          <p:nvPr/>
        </p:nvSpPr>
        <p:spPr>
          <a:xfrm>
            <a:off x="1292400" y="5770440"/>
            <a:ext cx="705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出示方法二）谁读懂了它的意思？说一说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3" name="Rectangle 2"/>
          <p:cNvSpPr/>
          <p:nvPr/>
        </p:nvSpPr>
        <p:spPr>
          <a:xfrm>
            <a:off x="500040" y="457200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知道了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4" name="Rectangle 2"/>
          <p:cNvSpPr/>
          <p:nvPr/>
        </p:nvSpPr>
        <p:spPr>
          <a:xfrm>
            <a:off x="1292400" y="5029200"/>
            <a:ext cx="610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能解决这个问题吗？用算式表达你的思考过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5" name="Rectangle 2"/>
          <p:cNvSpPr/>
          <p:nvPr/>
        </p:nvSpPr>
        <p:spPr>
          <a:xfrm>
            <a:off x="1285920" y="6164280"/>
            <a:ext cx="7786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上面的两种方法，请你用综合算式表示，并写出计算过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996" name="图片 31752" descr="33"/>
          <p:cNvPicPr/>
          <p:nvPr/>
        </p:nvPicPr>
        <p:blipFill>
          <a:blip r:embed="rId1"/>
          <a:stretch/>
        </p:blipFill>
        <p:spPr>
          <a:xfrm>
            <a:off x="849240" y="2090880"/>
            <a:ext cx="3976920" cy="2158920"/>
          </a:xfrm>
          <a:prstGeom prst="rect">
            <a:avLst/>
          </a:prstGeom>
          <a:ln w="0">
            <a:noFill/>
          </a:ln>
        </p:spPr>
      </p:pic>
      <p:grpSp>
        <p:nvGrpSpPr>
          <p:cNvPr id="1997" name="组合 31753"/>
          <p:cNvGrpSpPr/>
          <p:nvPr/>
        </p:nvGrpSpPr>
        <p:grpSpPr>
          <a:xfrm>
            <a:off x="4859280" y="1790640"/>
            <a:ext cx="4381560" cy="1496160"/>
            <a:chOff x="4859280" y="1790640"/>
            <a:chExt cx="4381560" cy="1496160"/>
          </a:xfrm>
        </p:grpSpPr>
        <p:sp>
          <p:nvSpPr>
            <p:cNvPr id="1998" name="TextBox 15"/>
            <p:cNvSpPr/>
            <p:nvPr/>
          </p:nvSpPr>
          <p:spPr>
            <a:xfrm>
              <a:off x="4859280" y="198936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方法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999" name="组合 31755"/>
            <p:cNvGrpSpPr/>
            <p:nvPr/>
          </p:nvGrpSpPr>
          <p:grpSpPr>
            <a:xfrm>
              <a:off x="5938920" y="1790640"/>
              <a:ext cx="2448000" cy="819720"/>
              <a:chOff x="5938920" y="1790640"/>
              <a:chExt cx="2448000" cy="819720"/>
            </a:xfrm>
          </p:grpSpPr>
          <p:grpSp>
            <p:nvGrpSpPr>
              <p:cNvPr id="2000" name="组合 31756"/>
              <p:cNvGrpSpPr/>
              <p:nvPr/>
            </p:nvGrpSpPr>
            <p:grpSpPr>
              <a:xfrm>
                <a:off x="5938920" y="1795320"/>
                <a:ext cx="1396800" cy="815040"/>
                <a:chOff x="5938920" y="1795320"/>
                <a:chExt cx="1396800" cy="815040"/>
              </a:xfrm>
            </p:grpSpPr>
            <p:sp>
              <p:nvSpPr>
                <p:cNvPr id="2001" name="文本框 31757"/>
                <p:cNvSpPr/>
                <p:nvPr/>
              </p:nvSpPr>
              <p:spPr>
                <a:xfrm>
                  <a:off x="6242040" y="2012760"/>
                  <a:ext cx="1093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02" name="文本框 31758"/>
                <p:cNvSpPr/>
                <p:nvPr/>
              </p:nvSpPr>
              <p:spPr>
                <a:xfrm>
                  <a:off x="5938920" y="21506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03" name="文本框 31759"/>
                <p:cNvSpPr/>
                <p:nvPr/>
              </p:nvSpPr>
              <p:spPr>
                <a:xfrm>
                  <a:off x="5952960" y="17953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04" name="直接连接符 31760"/>
                <p:cNvSpPr/>
                <p:nvPr/>
              </p:nvSpPr>
              <p:spPr>
                <a:xfrm>
                  <a:off x="5959440" y="221436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005" name="文本框 31761"/>
              <p:cNvSpPr/>
              <p:nvPr/>
            </p:nvSpPr>
            <p:spPr>
              <a:xfrm>
                <a:off x="6643800" y="1996920"/>
                <a:ext cx="174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（片）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2006" name="组合 31762"/>
              <p:cNvGrpSpPr/>
              <p:nvPr/>
            </p:nvGrpSpPr>
            <p:grpSpPr>
              <a:xfrm>
                <a:off x="7058160" y="1790640"/>
                <a:ext cx="679320" cy="805680"/>
                <a:chOff x="7058160" y="1790640"/>
                <a:chExt cx="679320" cy="805680"/>
              </a:xfrm>
            </p:grpSpPr>
            <p:sp>
              <p:nvSpPr>
                <p:cNvPr id="2007" name="文本框 31763"/>
                <p:cNvSpPr/>
                <p:nvPr/>
              </p:nvSpPr>
              <p:spPr>
                <a:xfrm>
                  <a:off x="7064280" y="2136600"/>
                  <a:ext cx="50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08" name="文本框 31764"/>
                <p:cNvSpPr/>
                <p:nvPr/>
              </p:nvSpPr>
              <p:spPr>
                <a:xfrm>
                  <a:off x="7058160" y="1790640"/>
                  <a:ext cx="679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09" name="直接连接符 31765"/>
                <p:cNvSpPr/>
                <p:nvPr/>
              </p:nvSpPr>
              <p:spPr>
                <a:xfrm>
                  <a:off x="7076880" y="2212920"/>
                  <a:ext cx="28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2010" name="组合 31766"/>
            <p:cNvGrpSpPr/>
            <p:nvPr/>
          </p:nvGrpSpPr>
          <p:grpSpPr>
            <a:xfrm>
              <a:off x="5856480" y="2470320"/>
              <a:ext cx="3384360" cy="816480"/>
              <a:chOff x="5856480" y="2470320"/>
              <a:chExt cx="3384360" cy="816480"/>
            </a:xfrm>
          </p:grpSpPr>
          <p:sp>
            <p:nvSpPr>
              <p:cNvPr id="2011" name="文本框 31767"/>
              <p:cNvSpPr/>
              <p:nvPr/>
            </p:nvSpPr>
            <p:spPr>
              <a:xfrm>
                <a:off x="5856480" y="2633760"/>
                <a:ext cx="338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÷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（天）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 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2012" name="组合 31768"/>
              <p:cNvGrpSpPr/>
              <p:nvPr/>
            </p:nvGrpSpPr>
            <p:grpSpPr>
              <a:xfrm>
                <a:off x="6432480" y="2471760"/>
                <a:ext cx="510480" cy="815040"/>
                <a:chOff x="6432480" y="2471760"/>
                <a:chExt cx="510480" cy="815040"/>
              </a:xfrm>
            </p:grpSpPr>
            <p:sp>
              <p:nvSpPr>
                <p:cNvPr id="2013" name="文本框 31769"/>
                <p:cNvSpPr/>
                <p:nvPr/>
              </p:nvSpPr>
              <p:spPr>
                <a:xfrm>
                  <a:off x="6438600" y="282708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14" name="文本框 31770"/>
                <p:cNvSpPr/>
                <p:nvPr/>
              </p:nvSpPr>
              <p:spPr>
                <a:xfrm>
                  <a:off x="6432480" y="247176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15" name="直接连接符 31771"/>
                <p:cNvSpPr/>
                <p:nvPr/>
              </p:nvSpPr>
              <p:spPr>
                <a:xfrm>
                  <a:off x="6447960" y="289080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016" name="组合 31772"/>
              <p:cNvGrpSpPr/>
              <p:nvPr/>
            </p:nvGrpSpPr>
            <p:grpSpPr>
              <a:xfrm>
                <a:off x="7512120" y="2470320"/>
                <a:ext cx="510120" cy="815040"/>
                <a:chOff x="7512120" y="2470320"/>
                <a:chExt cx="510120" cy="815040"/>
              </a:xfrm>
            </p:grpSpPr>
            <p:sp>
              <p:nvSpPr>
                <p:cNvPr id="2017" name="文本框 31773"/>
                <p:cNvSpPr/>
                <p:nvPr/>
              </p:nvSpPr>
              <p:spPr>
                <a:xfrm>
                  <a:off x="7518240" y="2825640"/>
                  <a:ext cx="504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18" name="文本框 31774"/>
                <p:cNvSpPr/>
                <p:nvPr/>
              </p:nvSpPr>
              <p:spPr>
                <a:xfrm>
                  <a:off x="7512120" y="2470320"/>
                  <a:ext cx="359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19" name="直接连接符 31775"/>
                <p:cNvSpPr/>
                <p:nvPr/>
              </p:nvSpPr>
              <p:spPr>
                <a:xfrm>
                  <a:off x="7527600" y="2889360"/>
                  <a:ext cx="286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2020" name="组合 31776"/>
          <p:cNvGrpSpPr/>
          <p:nvPr/>
        </p:nvGrpSpPr>
        <p:grpSpPr>
          <a:xfrm>
            <a:off x="4870440" y="3203640"/>
            <a:ext cx="4381560" cy="1247040"/>
            <a:chOff x="4870440" y="3203640"/>
            <a:chExt cx="4381560" cy="1247040"/>
          </a:xfrm>
        </p:grpSpPr>
        <p:sp>
          <p:nvSpPr>
            <p:cNvPr id="2021" name="TextBox 15"/>
            <p:cNvSpPr/>
            <p:nvPr/>
          </p:nvSpPr>
          <p:spPr>
            <a:xfrm>
              <a:off x="4870440" y="336060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方法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22" name="组合 31778"/>
            <p:cNvGrpSpPr/>
            <p:nvPr/>
          </p:nvGrpSpPr>
          <p:grpSpPr>
            <a:xfrm>
              <a:off x="5867280" y="3203640"/>
              <a:ext cx="3384720" cy="816480"/>
              <a:chOff x="5867280" y="3203640"/>
              <a:chExt cx="3384720" cy="816480"/>
            </a:xfrm>
          </p:grpSpPr>
          <p:sp>
            <p:nvSpPr>
              <p:cNvPr id="2023" name="文本框 31779"/>
              <p:cNvSpPr/>
              <p:nvPr/>
            </p:nvSpPr>
            <p:spPr>
              <a:xfrm>
                <a:off x="5867280" y="3367080"/>
                <a:ext cx="338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÷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4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（次）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 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2024" name="组合 31780"/>
              <p:cNvGrpSpPr/>
              <p:nvPr/>
            </p:nvGrpSpPr>
            <p:grpSpPr>
              <a:xfrm>
                <a:off x="6443640" y="3205080"/>
                <a:ext cx="511200" cy="815040"/>
                <a:chOff x="6443640" y="3205080"/>
                <a:chExt cx="511200" cy="815040"/>
              </a:xfrm>
            </p:grpSpPr>
            <p:sp>
              <p:nvSpPr>
                <p:cNvPr id="2025" name="文本框 31781"/>
                <p:cNvSpPr/>
                <p:nvPr/>
              </p:nvSpPr>
              <p:spPr>
                <a:xfrm>
                  <a:off x="6450120" y="35604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26" name="文本框 31782"/>
                <p:cNvSpPr/>
                <p:nvPr/>
              </p:nvSpPr>
              <p:spPr>
                <a:xfrm>
                  <a:off x="6443640" y="32050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27" name="直接连接符 31783"/>
                <p:cNvSpPr/>
                <p:nvPr/>
              </p:nvSpPr>
              <p:spPr>
                <a:xfrm>
                  <a:off x="6459480" y="362412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028" name="组合 31784"/>
              <p:cNvGrpSpPr/>
              <p:nvPr/>
            </p:nvGrpSpPr>
            <p:grpSpPr>
              <a:xfrm>
                <a:off x="7523280" y="3203640"/>
                <a:ext cx="510480" cy="815040"/>
                <a:chOff x="7523280" y="3203640"/>
                <a:chExt cx="510480" cy="815040"/>
              </a:xfrm>
            </p:grpSpPr>
            <p:sp>
              <p:nvSpPr>
                <p:cNvPr id="2029" name="文本框 31785"/>
                <p:cNvSpPr/>
                <p:nvPr/>
              </p:nvSpPr>
              <p:spPr>
                <a:xfrm>
                  <a:off x="7529400" y="355896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30" name="文本框 31786"/>
                <p:cNvSpPr/>
                <p:nvPr/>
              </p:nvSpPr>
              <p:spPr>
                <a:xfrm>
                  <a:off x="7523280" y="320364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31" name="直接连接符 31787"/>
                <p:cNvSpPr/>
                <p:nvPr/>
              </p:nvSpPr>
              <p:spPr>
                <a:xfrm>
                  <a:off x="7538760" y="362268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2032" name="文本框 31788"/>
            <p:cNvSpPr/>
            <p:nvPr/>
          </p:nvSpPr>
          <p:spPr>
            <a:xfrm>
              <a:off x="5886360" y="399096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4÷3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天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Rectangle 2"/>
          <p:cNvSpPr/>
          <p:nvPr/>
        </p:nvSpPr>
        <p:spPr>
          <a:xfrm>
            <a:off x="1285920" y="5952960"/>
            <a:ext cx="75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谁读懂了它的意思，说一说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4" name="Rectangle 2"/>
          <p:cNvSpPr/>
          <p:nvPr/>
        </p:nvSpPr>
        <p:spPr>
          <a:xfrm>
            <a:off x="493560" y="509580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知道了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5" name="Rectangle 2"/>
          <p:cNvSpPr/>
          <p:nvPr/>
        </p:nvSpPr>
        <p:spPr>
          <a:xfrm>
            <a:off x="1285920" y="5591160"/>
            <a:ext cx="610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能解决这个问题吗？用算式表达你的思考过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6" name="TextBox 1"/>
          <p:cNvSpPr/>
          <p:nvPr/>
        </p:nvSpPr>
        <p:spPr>
          <a:xfrm>
            <a:off x="395280" y="1413000"/>
            <a:ext cx="439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巩固练习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037" name="组合 32773"/>
          <p:cNvGrpSpPr/>
          <p:nvPr/>
        </p:nvGrpSpPr>
        <p:grpSpPr>
          <a:xfrm>
            <a:off x="765000" y="1916280"/>
            <a:ext cx="5904000" cy="1465560"/>
            <a:chOff x="765000" y="1916280"/>
            <a:chExt cx="5904000" cy="1465560"/>
          </a:xfrm>
        </p:grpSpPr>
        <p:sp>
          <p:nvSpPr>
            <p:cNvPr id="2038" name="矩形 32774"/>
            <p:cNvSpPr/>
            <p:nvPr/>
          </p:nvSpPr>
          <p:spPr>
            <a:xfrm>
              <a:off x="765000" y="1916280"/>
              <a:ext cx="5904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王叔叔家阁楼上的窗玻璃是梯形的，上底、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下底和高分别是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、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、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。这块玻璃的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面积是多少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39" name="组合 32775"/>
            <p:cNvGrpSpPr/>
            <p:nvPr/>
          </p:nvGrpSpPr>
          <p:grpSpPr>
            <a:xfrm>
              <a:off x="2636640" y="2290680"/>
              <a:ext cx="511200" cy="815040"/>
              <a:chOff x="2636640" y="2290680"/>
              <a:chExt cx="511200" cy="815040"/>
            </a:xfrm>
          </p:grpSpPr>
          <p:sp>
            <p:nvSpPr>
              <p:cNvPr id="2040" name="文本框 32776"/>
              <p:cNvSpPr/>
              <p:nvPr/>
            </p:nvSpPr>
            <p:spPr>
              <a:xfrm>
                <a:off x="2643120" y="2646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41" name="文本框 32777"/>
              <p:cNvSpPr/>
              <p:nvPr/>
            </p:nvSpPr>
            <p:spPr>
              <a:xfrm>
                <a:off x="2636640" y="2290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42" name="直接连接符 32778"/>
              <p:cNvSpPr/>
              <p:nvPr/>
            </p:nvSpPr>
            <p:spPr>
              <a:xfrm>
                <a:off x="2652480" y="27097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043" name="组合 32779"/>
            <p:cNvGrpSpPr/>
            <p:nvPr/>
          </p:nvGrpSpPr>
          <p:grpSpPr>
            <a:xfrm>
              <a:off x="3403440" y="2284560"/>
              <a:ext cx="511200" cy="815040"/>
              <a:chOff x="3403440" y="2284560"/>
              <a:chExt cx="511200" cy="815040"/>
            </a:xfrm>
          </p:grpSpPr>
          <p:sp>
            <p:nvSpPr>
              <p:cNvPr id="2044" name="文本框 32780"/>
              <p:cNvSpPr/>
              <p:nvPr/>
            </p:nvSpPr>
            <p:spPr>
              <a:xfrm>
                <a:off x="3409920" y="2639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45" name="文本框 32781"/>
              <p:cNvSpPr/>
              <p:nvPr/>
            </p:nvSpPr>
            <p:spPr>
              <a:xfrm>
                <a:off x="3403440" y="2284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46" name="直接连接符 32782"/>
              <p:cNvSpPr/>
              <p:nvPr/>
            </p:nvSpPr>
            <p:spPr>
              <a:xfrm>
                <a:off x="3419280" y="2703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047" name="组合 32783"/>
            <p:cNvGrpSpPr/>
            <p:nvPr/>
          </p:nvGrpSpPr>
          <p:grpSpPr>
            <a:xfrm>
              <a:off x="4195440" y="2284560"/>
              <a:ext cx="511200" cy="815040"/>
              <a:chOff x="4195440" y="2284560"/>
              <a:chExt cx="511200" cy="815040"/>
            </a:xfrm>
          </p:grpSpPr>
          <p:sp>
            <p:nvSpPr>
              <p:cNvPr id="2048" name="文本框 32784"/>
              <p:cNvSpPr/>
              <p:nvPr/>
            </p:nvSpPr>
            <p:spPr>
              <a:xfrm>
                <a:off x="4201920" y="2639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49" name="文本框 32785"/>
              <p:cNvSpPr/>
              <p:nvPr/>
            </p:nvSpPr>
            <p:spPr>
              <a:xfrm>
                <a:off x="4195440" y="2284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50" name="直接连接符 32786"/>
              <p:cNvSpPr/>
              <p:nvPr/>
            </p:nvSpPr>
            <p:spPr>
              <a:xfrm>
                <a:off x="4211280" y="2703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2051" name="图片 32787" descr="34"/>
          <p:cNvPicPr/>
          <p:nvPr/>
        </p:nvPicPr>
        <p:blipFill>
          <a:blip r:embed="rId1"/>
          <a:stretch/>
        </p:blipFill>
        <p:spPr>
          <a:xfrm>
            <a:off x="6516720" y="1989000"/>
            <a:ext cx="1814400" cy="1801800"/>
          </a:xfrm>
          <a:prstGeom prst="rect">
            <a:avLst/>
          </a:prstGeom>
          <a:ln w="0">
            <a:noFill/>
          </a:ln>
        </p:spPr>
      </p:pic>
      <p:grpSp>
        <p:nvGrpSpPr>
          <p:cNvPr id="2052" name="组合 32788"/>
          <p:cNvGrpSpPr/>
          <p:nvPr/>
        </p:nvGrpSpPr>
        <p:grpSpPr>
          <a:xfrm>
            <a:off x="3179880" y="3213000"/>
            <a:ext cx="2717280" cy="2075760"/>
            <a:chOff x="3179880" y="3213000"/>
            <a:chExt cx="2717280" cy="2075760"/>
          </a:xfrm>
        </p:grpSpPr>
        <p:grpSp>
          <p:nvGrpSpPr>
            <p:cNvPr id="2053" name="组合 32789"/>
            <p:cNvGrpSpPr/>
            <p:nvPr/>
          </p:nvGrpSpPr>
          <p:grpSpPr>
            <a:xfrm>
              <a:off x="3376440" y="3213000"/>
              <a:ext cx="2520720" cy="834120"/>
              <a:chOff x="3376440" y="3213000"/>
              <a:chExt cx="2520720" cy="834120"/>
            </a:xfrm>
          </p:grpSpPr>
          <p:grpSp>
            <p:nvGrpSpPr>
              <p:cNvPr id="2054" name="组合 32790"/>
              <p:cNvGrpSpPr/>
              <p:nvPr/>
            </p:nvGrpSpPr>
            <p:grpSpPr>
              <a:xfrm>
                <a:off x="3693960" y="3232080"/>
                <a:ext cx="511200" cy="815040"/>
                <a:chOff x="3693960" y="3232080"/>
                <a:chExt cx="511200" cy="815040"/>
              </a:xfrm>
            </p:grpSpPr>
            <p:sp>
              <p:nvSpPr>
                <p:cNvPr id="2055" name="文本框 32791"/>
                <p:cNvSpPr/>
                <p:nvPr/>
              </p:nvSpPr>
              <p:spPr>
                <a:xfrm>
                  <a:off x="3700440" y="35874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56" name="文本框 32792"/>
                <p:cNvSpPr/>
                <p:nvPr/>
              </p:nvSpPr>
              <p:spPr>
                <a:xfrm>
                  <a:off x="3693960" y="32320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57" name="直接连接符 32793"/>
                <p:cNvSpPr/>
                <p:nvPr/>
              </p:nvSpPr>
              <p:spPr>
                <a:xfrm>
                  <a:off x="3709800" y="365112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058" name="文本框 32794"/>
              <p:cNvSpPr/>
              <p:nvPr/>
            </p:nvSpPr>
            <p:spPr>
              <a:xfrm>
                <a:off x="3376440" y="3378240"/>
                <a:ext cx="25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（  ＋  ）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   ÷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2059" name="组合 32795"/>
              <p:cNvGrpSpPr/>
              <p:nvPr/>
            </p:nvGrpSpPr>
            <p:grpSpPr>
              <a:xfrm>
                <a:off x="4209840" y="3232080"/>
                <a:ext cx="511200" cy="815040"/>
                <a:chOff x="4209840" y="3232080"/>
                <a:chExt cx="511200" cy="815040"/>
              </a:xfrm>
            </p:grpSpPr>
            <p:sp>
              <p:nvSpPr>
                <p:cNvPr id="2060" name="文本框 32796"/>
                <p:cNvSpPr/>
                <p:nvPr/>
              </p:nvSpPr>
              <p:spPr>
                <a:xfrm>
                  <a:off x="4216320" y="35874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61" name="文本框 32797"/>
                <p:cNvSpPr/>
                <p:nvPr/>
              </p:nvSpPr>
              <p:spPr>
                <a:xfrm>
                  <a:off x="4209840" y="32320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62" name="直接连接符 32798"/>
                <p:cNvSpPr/>
                <p:nvPr/>
              </p:nvSpPr>
              <p:spPr>
                <a:xfrm>
                  <a:off x="4225680" y="365112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063" name="组合 32799"/>
              <p:cNvGrpSpPr/>
              <p:nvPr/>
            </p:nvGrpSpPr>
            <p:grpSpPr>
              <a:xfrm>
                <a:off x="5035320" y="3213000"/>
                <a:ext cx="511200" cy="815040"/>
                <a:chOff x="5035320" y="3213000"/>
                <a:chExt cx="511200" cy="815040"/>
              </a:xfrm>
            </p:grpSpPr>
            <p:sp>
              <p:nvSpPr>
                <p:cNvPr id="2064" name="文本框 32800"/>
                <p:cNvSpPr/>
                <p:nvPr/>
              </p:nvSpPr>
              <p:spPr>
                <a:xfrm>
                  <a:off x="5041800" y="35683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65" name="文本框 32801"/>
                <p:cNvSpPr/>
                <p:nvPr/>
              </p:nvSpPr>
              <p:spPr>
                <a:xfrm>
                  <a:off x="5035320" y="32130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066" name="直接连接符 32802"/>
                <p:cNvSpPr/>
                <p:nvPr/>
              </p:nvSpPr>
              <p:spPr>
                <a:xfrm>
                  <a:off x="5051160" y="36320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2067" name="文本框 32803"/>
            <p:cNvSpPr/>
            <p:nvPr/>
          </p:nvSpPr>
          <p:spPr>
            <a:xfrm>
              <a:off x="3179880" y="397980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  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68" name="组合 32804"/>
            <p:cNvGrpSpPr/>
            <p:nvPr/>
          </p:nvGrpSpPr>
          <p:grpSpPr>
            <a:xfrm>
              <a:off x="3578400" y="3840120"/>
              <a:ext cx="510480" cy="815040"/>
              <a:chOff x="3578400" y="3840120"/>
              <a:chExt cx="510480" cy="815040"/>
            </a:xfrm>
          </p:grpSpPr>
          <p:sp>
            <p:nvSpPr>
              <p:cNvPr id="2069" name="文本框 32805"/>
              <p:cNvSpPr/>
              <p:nvPr/>
            </p:nvSpPr>
            <p:spPr>
              <a:xfrm>
                <a:off x="3584520" y="41954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0" name="文本框 32806"/>
              <p:cNvSpPr/>
              <p:nvPr/>
            </p:nvSpPr>
            <p:spPr>
              <a:xfrm>
                <a:off x="3578400" y="384012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1" name="直接连接符 32807"/>
              <p:cNvSpPr/>
              <p:nvPr/>
            </p:nvSpPr>
            <p:spPr>
              <a:xfrm>
                <a:off x="3593880" y="42591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072" name="组合 32808"/>
            <p:cNvGrpSpPr/>
            <p:nvPr/>
          </p:nvGrpSpPr>
          <p:grpSpPr>
            <a:xfrm>
              <a:off x="4143240" y="3841920"/>
              <a:ext cx="511200" cy="815040"/>
              <a:chOff x="4143240" y="3841920"/>
              <a:chExt cx="511200" cy="815040"/>
            </a:xfrm>
          </p:grpSpPr>
          <p:sp>
            <p:nvSpPr>
              <p:cNvPr id="2073" name="文本框 32809"/>
              <p:cNvSpPr/>
              <p:nvPr/>
            </p:nvSpPr>
            <p:spPr>
              <a:xfrm>
                <a:off x="4149720" y="41972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4" name="文本框 32810"/>
              <p:cNvSpPr/>
              <p:nvPr/>
            </p:nvSpPr>
            <p:spPr>
              <a:xfrm>
                <a:off x="4143240" y="3841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5" name="直接连接符 32811"/>
              <p:cNvSpPr/>
              <p:nvPr/>
            </p:nvSpPr>
            <p:spPr>
              <a:xfrm>
                <a:off x="4159080" y="42609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076" name="组合 32812"/>
            <p:cNvGrpSpPr/>
            <p:nvPr/>
          </p:nvGrpSpPr>
          <p:grpSpPr>
            <a:xfrm>
              <a:off x="4675320" y="3832200"/>
              <a:ext cx="511200" cy="815040"/>
              <a:chOff x="4675320" y="3832200"/>
              <a:chExt cx="511200" cy="815040"/>
            </a:xfrm>
          </p:grpSpPr>
          <p:sp>
            <p:nvSpPr>
              <p:cNvPr id="2077" name="文本框 32813"/>
              <p:cNvSpPr/>
              <p:nvPr/>
            </p:nvSpPr>
            <p:spPr>
              <a:xfrm>
                <a:off x="4681800" y="4187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8" name="文本框 32814"/>
              <p:cNvSpPr/>
              <p:nvPr/>
            </p:nvSpPr>
            <p:spPr>
              <a:xfrm>
                <a:off x="4675320" y="3832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9" name="直接连接符 32815"/>
              <p:cNvSpPr/>
              <p:nvPr/>
            </p:nvSpPr>
            <p:spPr>
              <a:xfrm>
                <a:off x="4691160" y="42512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80" name="文本框 32816"/>
            <p:cNvSpPr/>
            <p:nvPr/>
          </p:nvSpPr>
          <p:spPr>
            <a:xfrm>
              <a:off x="3195720" y="4608360"/>
              <a:ext cx="18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（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81" name="组合 32817"/>
            <p:cNvGrpSpPr/>
            <p:nvPr/>
          </p:nvGrpSpPr>
          <p:grpSpPr>
            <a:xfrm>
              <a:off x="3530520" y="4473720"/>
              <a:ext cx="576360" cy="815040"/>
              <a:chOff x="3530520" y="4473720"/>
              <a:chExt cx="576360" cy="815040"/>
            </a:xfrm>
          </p:grpSpPr>
          <p:sp>
            <p:nvSpPr>
              <p:cNvPr id="2082" name="文本框 32818"/>
              <p:cNvSpPr/>
              <p:nvPr/>
            </p:nvSpPr>
            <p:spPr>
              <a:xfrm>
                <a:off x="3536640" y="482904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83" name="文本框 32819"/>
              <p:cNvSpPr/>
              <p:nvPr/>
            </p:nvSpPr>
            <p:spPr>
              <a:xfrm>
                <a:off x="3530520" y="4473720"/>
                <a:ext cx="57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84" name="直接连接符 32820"/>
              <p:cNvSpPr/>
              <p:nvPr/>
            </p:nvSpPr>
            <p:spPr>
              <a:xfrm>
                <a:off x="3603600" y="48927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pic>
          <p:nvPicPr>
            <p:cNvPr id="2085" name="对象 32821" descr=""/>
            <p:cNvPicPr/>
            <p:nvPr/>
          </p:nvPicPr>
          <p:blipFill>
            <a:blip r:embed="rId2"/>
            <a:stretch/>
          </p:blipFill>
          <p:spPr>
            <a:xfrm>
              <a:off x="4168800" y="4643280"/>
              <a:ext cx="36036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86" name="Rectangle 2"/>
          <p:cNvSpPr/>
          <p:nvPr/>
        </p:nvSpPr>
        <p:spPr>
          <a:xfrm>
            <a:off x="471600" y="42372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四、教学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混合运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五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8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9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2090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2091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2092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093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2094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2095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2096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2097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2098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复习导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2"/>
          <p:cNvSpPr/>
          <p:nvPr/>
        </p:nvSpPr>
        <p:spPr>
          <a:xfrm>
            <a:off x="714240" y="1571760"/>
            <a:ext cx="4714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说出下面各数的倒数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6" name="Rectangle 2"/>
          <p:cNvSpPr/>
          <p:nvPr/>
        </p:nvSpPr>
        <p:spPr>
          <a:xfrm>
            <a:off x="1285920" y="3786120"/>
            <a:ext cx="1643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7" name="文本框 19460"/>
          <p:cNvSpPr/>
          <p:nvPr/>
        </p:nvSpPr>
        <p:spPr>
          <a:xfrm>
            <a:off x="1341360" y="26654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88" name="组合 19461"/>
          <p:cNvGrpSpPr/>
          <p:nvPr/>
        </p:nvGrpSpPr>
        <p:grpSpPr>
          <a:xfrm>
            <a:off x="2268360" y="2492280"/>
            <a:ext cx="511200" cy="815040"/>
            <a:chOff x="2268360" y="2492280"/>
            <a:chExt cx="511200" cy="815040"/>
          </a:xfrm>
        </p:grpSpPr>
        <p:sp>
          <p:nvSpPr>
            <p:cNvPr id="1489" name="文本框 19462"/>
            <p:cNvSpPr/>
            <p:nvPr/>
          </p:nvSpPr>
          <p:spPr>
            <a:xfrm>
              <a:off x="2274840" y="28476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0" name="文本框 19463"/>
            <p:cNvSpPr/>
            <p:nvPr/>
          </p:nvSpPr>
          <p:spPr>
            <a:xfrm>
              <a:off x="2268360" y="2492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1" name="直接连接符 19464"/>
            <p:cNvSpPr/>
            <p:nvPr/>
          </p:nvSpPr>
          <p:spPr>
            <a:xfrm>
              <a:off x="2284200" y="291132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492" name="组合 19465"/>
          <p:cNvGrpSpPr/>
          <p:nvPr/>
        </p:nvGrpSpPr>
        <p:grpSpPr>
          <a:xfrm>
            <a:off x="3268800" y="2492280"/>
            <a:ext cx="511200" cy="815040"/>
            <a:chOff x="3268800" y="2492280"/>
            <a:chExt cx="511200" cy="815040"/>
          </a:xfrm>
        </p:grpSpPr>
        <p:sp>
          <p:nvSpPr>
            <p:cNvPr id="1493" name="文本框 19466"/>
            <p:cNvSpPr/>
            <p:nvPr/>
          </p:nvSpPr>
          <p:spPr>
            <a:xfrm>
              <a:off x="3275280" y="28476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4" name="文本框 19467"/>
            <p:cNvSpPr/>
            <p:nvPr/>
          </p:nvSpPr>
          <p:spPr>
            <a:xfrm>
              <a:off x="3268800" y="2492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5" name="直接连接符 19468"/>
            <p:cNvSpPr/>
            <p:nvPr/>
          </p:nvSpPr>
          <p:spPr>
            <a:xfrm>
              <a:off x="3284640" y="291132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496" name="组合 19469"/>
          <p:cNvGrpSpPr/>
          <p:nvPr/>
        </p:nvGrpSpPr>
        <p:grpSpPr>
          <a:xfrm>
            <a:off x="4129200" y="2492280"/>
            <a:ext cx="586800" cy="815400"/>
            <a:chOff x="4129200" y="2492280"/>
            <a:chExt cx="586800" cy="815400"/>
          </a:xfrm>
        </p:grpSpPr>
        <p:sp>
          <p:nvSpPr>
            <p:cNvPr id="1497" name="文本框 19470"/>
            <p:cNvSpPr/>
            <p:nvPr/>
          </p:nvSpPr>
          <p:spPr>
            <a:xfrm>
              <a:off x="4211280" y="28479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8" name="文本框 19471"/>
            <p:cNvSpPr/>
            <p:nvPr/>
          </p:nvSpPr>
          <p:spPr>
            <a:xfrm>
              <a:off x="4129200" y="2492280"/>
              <a:ext cx="5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9" name="直接连接符 19472"/>
            <p:cNvSpPr/>
            <p:nvPr/>
          </p:nvSpPr>
          <p:spPr>
            <a:xfrm>
              <a:off x="4192200" y="29113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00" name="文本框 19473"/>
          <p:cNvSpPr/>
          <p:nvPr/>
        </p:nvSpPr>
        <p:spPr>
          <a:xfrm>
            <a:off x="5176800" y="26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01" name="组合 19474"/>
          <p:cNvGrpSpPr/>
          <p:nvPr/>
        </p:nvGrpSpPr>
        <p:grpSpPr>
          <a:xfrm>
            <a:off x="1335240" y="4102200"/>
            <a:ext cx="511200" cy="815400"/>
            <a:chOff x="1335240" y="4102200"/>
            <a:chExt cx="511200" cy="815400"/>
          </a:xfrm>
        </p:grpSpPr>
        <p:sp>
          <p:nvSpPr>
            <p:cNvPr id="1502" name="文本框 19475"/>
            <p:cNvSpPr/>
            <p:nvPr/>
          </p:nvSpPr>
          <p:spPr>
            <a:xfrm>
              <a:off x="1341360" y="44578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3" name="文本框 19476"/>
            <p:cNvSpPr/>
            <p:nvPr/>
          </p:nvSpPr>
          <p:spPr>
            <a:xfrm>
              <a:off x="1335240" y="41022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4" name="直接连接符 19477"/>
            <p:cNvSpPr/>
            <p:nvPr/>
          </p:nvSpPr>
          <p:spPr>
            <a:xfrm>
              <a:off x="1351080" y="4521240"/>
              <a:ext cx="287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05" name="文本框 19478"/>
          <p:cNvSpPr/>
          <p:nvPr/>
        </p:nvSpPr>
        <p:spPr>
          <a:xfrm>
            <a:off x="2262240" y="4302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5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06" name="组合 19479"/>
          <p:cNvGrpSpPr/>
          <p:nvPr/>
        </p:nvGrpSpPr>
        <p:grpSpPr>
          <a:xfrm>
            <a:off x="4111560" y="4129200"/>
            <a:ext cx="504720" cy="815040"/>
            <a:chOff x="4111560" y="4129200"/>
            <a:chExt cx="504720" cy="815040"/>
          </a:xfrm>
        </p:grpSpPr>
        <p:sp>
          <p:nvSpPr>
            <p:cNvPr id="1507" name="文本框 19480"/>
            <p:cNvSpPr/>
            <p:nvPr/>
          </p:nvSpPr>
          <p:spPr>
            <a:xfrm>
              <a:off x="4111560" y="4484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8" name="文本框 19481"/>
            <p:cNvSpPr/>
            <p:nvPr/>
          </p:nvSpPr>
          <p:spPr>
            <a:xfrm>
              <a:off x="4200480" y="41292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9" name="直接连接符 19482"/>
            <p:cNvSpPr/>
            <p:nvPr/>
          </p:nvSpPr>
          <p:spPr>
            <a:xfrm>
              <a:off x="4178160" y="454824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10" name="文本框 19483"/>
          <p:cNvSpPr/>
          <p:nvPr/>
        </p:nvSpPr>
        <p:spPr>
          <a:xfrm>
            <a:off x="5219640" y="42991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11" name="组合 19484"/>
          <p:cNvGrpSpPr/>
          <p:nvPr/>
        </p:nvGrpSpPr>
        <p:grpSpPr>
          <a:xfrm>
            <a:off x="3203640" y="4114800"/>
            <a:ext cx="511200" cy="815400"/>
            <a:chOff x="3203640" y="4114800"/>
            <a:chExt cx="511200" cy="815400"/>
          </a:xfrm>
        </p:grpSpPr>
        <p:sp>
          <p:nvSpPr>
            <p:cNvPr id="1512" name="文本框 19485"/>
            <p:cNvSpPr/>
            <p:nvPr/>
          </p:nvSpPr>
          <p:spPr>
            <a:xfrm>
              <a:off x="3209760" y="44704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3" name="文本框 19486"/>
            <p:cNvSpPr/>
            <p:nvPr/>
          </p:nvSpPr>
          <p:spPr>
            <a:xfrm>
              <a:off x="3203640" y="4114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4" name="直接连接符 19487"/>
            <p:cNvSpPr/>
            <p:nvPr/>
          </p:nvSpPr>
          <p:spPr>
            <a:xfrm>
              <a:off x="3219480" y="4533840"/>
              <a:ext cx="287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15" name="矩形 19488"/>
          <p:cNvSpPr/>
          <p:nvPr/>
        </p:nvSpPr>
        <p:spPr>
          <a:xfrm>
            <a:off x="18720" y="4432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6" name="矩形 19489"/>
          <p:cNvSpPr/>
          <p:nvPr/>
        </p:nvSpPr>
        <p:spPr>
          <a:xfrm>
            <a:off x="234720" y="4648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二、教学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除以整数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18" name="组合 40" descr=""/>
          <p:cNvPicPr/>
          <p:nvPr/>
        </p:nvPicPr>
        <p:blipFill>
          <a:blip r:embed="rId1"/>
          <a:stretch/>
        </p:blipFill>
        <p:spPr>
          <a:xfrm>
            <a:off x="1882800" y="2932200"/>
            <a:ext cx="1727280" cy="1226880"/>
          </a:xfrm>
          <a:prstGeom prst="rect">
            <a:avLst/>
          </a:prstGeom>
          <a:ln w="0">
            <a:noFill/>
          </a:ln>
        </p:spPr>
      </p:pic>
      <p:grpSp>
        <p:nvGrpSpPr>
          <p:cNvPr id="1519" name="组合 20522"/>
          <p:cNvGrpSpPr/>
          <p:nvPr/>
        </p:nvGrpSpPr>
        <p:grpSpPr>
          <a:xfrm>
            <a:off x="965160" y="2176560"/>
            <a:ext cx="6649920" cy="815040"/>
            <a:chOff x="965160" y="2176560"/>
            <a:chExt cx="6649920" cy="815040"/>
          </a:xfrm>
        </p:grpSpPr>
        <p:sp>
          <p:nvSpPr>
            <p:cNvPr id="1520" name="TextBox 7"/>
            <p:cNvSpPr/>
            <p:nvPr/>
          </p:nvSpPr>
          <p:spPr>
            <a:xfrm>
              <a:off x="965160" y="229536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把一张纸的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1" name="TextBox 8"/>
            <p:cNvSpPr/>
            <p:nvPr/>
          </p:nvSpPr>
          <p:spPr>
            <a:xfrm>
              <a:off x="2614680" y="2338560"/>
              <a:ext cx="50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平均分成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，每份是这张纸的几分之几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22" name="组合 20486"/>
            <p:cNvGrpSpPr/>
            <p:nvPr/>
          </p:nvGrpSpPr>
          <p:grpSpPr>
            <a:xfrm>
              <a:off x="2363760" y="2176560"/>
              <a:ext cx="511200" cy="815040"/>
              <a:chOff x="2363760" y="2176560"/>
              <a:chExt cx="511200" cy="815040"/>
            </a:xfrm>
          </p:grpSpPr>
          <p:sp>
            <p:nvSpPr>
              <p:cNvPr id="1523" name="文本框 20487"/>
              <p:cNvSpPr/>
              <p:nvPr/>
            </p:nvSpPr>
            <p:spPr>
              <a:xfrm>
                <a:off x="2370240" y="2531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4" name="文本框 20488"/>
              <p:cNvSpPr/>
              <p:nvPr/>
            </p:nvSpPr>
            <p:spPr>
              <a:xfrm>
                <a:off x="2363760" y="2176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5" name="直接连接符 20489"/>
              <p:cNvSpPr/>
              <p:nvPr/>
            </p:nvSpPr>
            <p:spPr>
              <a:xfrm>
                <a:off x="2379600" y="2595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26" name="组合 20490"/>
          <p:cNvGrpSpPr/>
          <p:nvPr/>
        </p:nvGrpSpPr>
        <p:grpSpPr>
          <a:xfrm>
            <a:off x="257040" y="5124600"/>
            <a:ext cx="8750160" cy="1053000"/>
            <a:chOff x="257040" y="5124600"/>
            <a:chExt cx="8750160" cy="1053000"/>
          </a:xfrm>
        </p:grpSpPr>
        <p:sp>
          <p:nvSpPr>
            <p:cNvPr id="1527" name="Rectangle 2"/>
            <p:cNvSpPr/>
            <p:nvPr/>
          </p:nvSpPr>
          <p:spPr>
            <a:xfrm>
              <a:off x="257040" y="5124600"/>
              <a:ext cx="87501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请看上面的问题，和我们以前学过的什么知识有关系？（平均分，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求一份是多少） 你能列出算式吗？（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÷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28" name="组合 20492"/>
            <p:cNvGrpSpPr/>
            <p:nvPr/>
          </p:nvGrpSpPr>
          <p:grpSpPr>
            <a:xfrm>
              <a:off x="5311440" y="5362560"/>
              <a:ext cx="511200" cy="815040"/>
              <a:chOff x="5311440" y="5362560"/>
              <a:chExt cx="511200" cy="815040"/>
            </a:xfrm>
          </p:grpSpPr>
          <p:sp>
            <p:nvSpPr>
              <p:cNvPr id="1529" name="文本框 20493"/>
              <p:cNvSpPr/>
              <p:nvPr/>
            </p:nvSpPr>
            <p:spPr>
              <a:xfrm>
                <a:off x="5317920" y="5717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0" name="文本框 20494"/>
              <p:cNvSpPr/>
              <p:nvPr/>
            </p:nvSpPr>
            <p:spPr>
              <a:xfrm>
                <a:off x="5311440" y="5362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1" name="直接连接符 20495"/>
              <p:cNvSpPr/>
              <p:nvPr/>
            </p:nvSpPr>
            <p:spPr>
              <a:xfrm>
                <a:off x="5327280" y="5781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32" name="组合 21"/>
          <p:cNvGrpSpPr/>
          <p:nvPr/>
        </p:nvGrpSpPr>
        <p:grpSpPr>
          <a:xfrm>
            <a:off x="1892160" y="2933640"/>
            <a:ext cx="2143080" cy="1214640"/>
            <a:chOff x="1892160" y="2933640"/>
            <a:chExt cx="2143080" cy="1214640"/>
          </a:xfrm>
        </p:grpSpPr>
        <p:sp>
          <p:nvSpPr>
            <p:cNvPr id="1533" name="矩形 16"/>
            <p:cNvSpPr/>
            <p:nvPr/>
          </p:nvSpPr>
          <p:spPr>
            <a:xfrm>
              <a:off x="1892160" y="2933640"/>
              <a:ext cx="428400" cy="121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4" name="矩形 17"/>
            <p:cNvSpPr/>
            <p:nvPr/>
          </p:nvSpPr>
          <p:spPr>
            <a:xfrm>
              <a:off x="2320560" y="2933640"/>
              <a:ext cx="428400" cy="121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5" name="矩形 18"/>
            <p:cNvSpPr/>
            <p:nvPr/>
          </p:nvSpPr>
          <p:spPr>
            <a:xfrm>
              <a:off x="2749320" y="2933640"/>
              <a:ext cx="428400" cy="121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6" name="矩形 19"/>
            <p:cNvSpPr/>
            <p:nvPr/>
          </p:nvSpPr>
          <p:spPr>
            <a:xfrm>
              <a:off x="3178080" y="2933640"/>
              <a:ext cx="428400" cy="121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7" name="矩形 20"/>
            <p:cNvSpPr/>
            <p:nvPr/>
          </p:nvSpPr>
          <p:spPr>
            <a:xfrm>
              <a:off x="3606840" y="2933640"/>
              <a:ext cx="428400" cy="121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38" name="组合 20521"/>
          <p:cNvGrpSpPr/>
          <p:nvPr/>
        </p:nvGrpSpPr>
        <p:grpSpPr>
          <a:xfrm>
            <a:off x="-36360" y="4259160"/>
            <a:ext cx="8750160" cy="824760"/>
            <a:chOff x="-36360" y="4259160"/>
            <a:chExt cx="8750160" cy="824760"/>
          </a:xfrm>
        </p:grpSpPr>
        <p:sp>
          <p:nvSpPr>
            <p:cNvPr id="1539" name="Rectangle 2"/>
            <p:cNvSpPr/>
            <p:nvPr/>
          </p:nvSpPr>
          <p:spPr>
            <a:xfrm>
              <a:off x="-36360" y="4362480"/>
              <a:ext cx="87501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问题：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你能用阴影表示出这张纸的     吗？（学生画出长方形纸的     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40" name="组合 20504"/>
            <p:cNvGrpSpPr/>
            <p:nvPr/>
          </p:nvGrpSpPr>
          <p:grpSpPr>
            <a:xfrm>
              <a:off x="4183200" y="4268880"/>
              <a:ext cx="511200" cy="815040"/>
              <a:chOff x="4183200" y="4268880"/>
              <a:chExt cx="511200" cy="815040"/>
            </a:xfrm>
          </p:grpSpPr>
          <p:sp>
            <p:nvSpPr>
              <p:cNvPr id="1541" name="文本框 20505"/>
              <p:cNvSpPr/>
              <p:nvPr/>
            </p:nvSpPr>
            <p:spPr>
              <a:xfrm>
                <a:off x="4189680" y="4624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2" name="文本框 20506"/>
              <p:cNvSpPr/>
              <p:nvPr/>
            </p:nvSpPr>
            <p:spPr>
              <a:xfrm>
                <a:off x="4183200" y="42688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3" name="直接连接符 20507"/>
              <p:cNvSpPr/>
              <p:nvPr/>
            </p:nvSpPr>
            <p:spPr>
              <a:xfrm>
                <a:off x="4199040" y="46879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44" name="组合 20508"/>
            <p:cNvGrpSpPr/>
            <p:nvPr/>
          </p:nvGrpSpPr>
          <p:grpSpPr>
            <a:xfrm>
              <a:off x="7648560" y="4259160"/>
              <a:ext cx="511200" cy="815040"/>
              <a:chOff x="7648560" y="4259160"/>
              <a:chExt cx="511200" cy="815040"/>
            </a:xfrm>
          </p:grpSpPr>
          <p:sp>
            <p:nvSpPr>
              <p:cNvPr id="1545" name="文本框 20509"/>
              <p:cNvSpPr/>
              <p:nvPr/>
            </p:nvSpPr>
            <p:spPr>
              <a:xfrm>
                <a:off x="7655040" y="46144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6" name="文本框 20510"/>
              <p:cNvSpPr/>
              <p:nvPr/>
            </p:nvSpPr>
            <p:spPr>
              <a:xfrm>
                <a:off x="7648560" y="4259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7" name="直接连接符 20511"/>
              <p:cNvSpPr/>
              <p:nvPr/>
            </p:nvSpPr>
            <p:spPr>
              <a:xfrm>
                <a:off x="7664400" y="46782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48" name="组合 20512"/>
          <p:cNvGrpSpPr/>
          <p:nvPr/>
        </p:nvGrpSpPr>
        <p:grpSpPr>
          <a:xfrm>
            <a:off x="255600" y="5950080"/>
            <a:ext cx="8750160" cy="815040"/>
            <a:chOff x="255600" y="5950080"/>
            <a:chExt cx="8750160" cy="815040"/>
          </a:xfrm>
        </p:grpSpPr>
        <p:sp>
          <p:nvSpPr>
            <p:cNvPr id="1549" name="Rectangle 2"/>
            <p:cNvSpPr/>
            <p:nvPr/>
          </p:nvSpPr>
          <p:spPr>
            <a:xfrm>
              <a:off x="255600" y="6006960"/>
              <a:ext cx="875016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借助手中的学具，折一折，画一画，表示出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÷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的意义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50" name="组合 20514"/>
            <p:cNvGrpSpPr/>
            <p:nvPr/>
          </p:nvGrpSpPr>
          <p:grpSpPr>
            <a:xfrm>
              <a:off x="6059160" y="5950080"/>
              <a:ext cx="510480" cy="815040"/>
              <a:chOff x="6059160" y="5950080"/>
              <a:chExt cx="510480" cy="815040"/>
            </a:xfrm>
          </p:grpSpPr>
          <p:sp>
            <p:nvSpPr>
              <p:cNvPr id="1551" name="文本框 20515"/>
              <p:cNvSpPr/>
              <p:nvPr/>
            </p:nvSpPr>
            <p:spPr>
              <a:xfrm>
                <a:off x="6065280" y="63054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2" name="文本框 20516"/>
              <p:cNvSpPr/>
              <p:nvPr/>
            </p:nvSpPr>
            <p:spPr>
              <a:xfrm>
                <a:off x="6059160" y="59500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3" name="直接连接符 20517"/>
              <p:cNvSpPr/>
              <p:nvPr/>
            </p:nvSpPr>
            <p:spPr>
              <a:xfrm>
                <a:off x="6074640" y="63691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54" name="TextBox 6"/>
          <p:cNvSpPr/>
          <p:nvPr/>
        </p:nvSpPr>
        <p:spPr>
          <a:xfrm>
            <a:off x="395280" y="1413000"/>
            <a:ext cx="5977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引入情境，探究新知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5" name="矩形 20519"/>
          <p:cNvSpPr/>
          <p:nvPr/>
        </p:nvSpPr>
        <p:spPr>
          <a:xfrm>
            <a:off x="18720" y="4432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Rectangle 2"/>
          <p:cNvSpPr/>
          <p:nvPr/>
        </p:nvSpPr>
        <p:spPr>
          <a:xfrm>
            <a:off x="214200" y="4857840"/>
            <a:ext cx="84297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用算式表示出刚才折或画的过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7" name="Rectangle 2"/>
          <p:cNvSpPr/>
          <p:nvPr/>
        </p:nvSpPr>
        <p:spPr>
          <a:xfrm>
            <a:off x="1000080" y="5357880"/>
            <a:ext cx="84297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结合画好的图，说说你的计算过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58" name="组合 21507"/>
          <p:cNvGrpSpPr/>
          <p:nvPr/>
        </p:nvGrpSpPr>
        <p:grpSpPr>
          <a:xfrm>
            <a:off x="1187280" y="2060640"/>
            <a:ext cx="6650280" cy="815040"/>
            <a:chOff x="1187280" y="2060640"/>
            <a:chExt cx="6650280" cy="815040"/>
          </a:xfrm>
        </p:grpSpPr>
        <p:sp>
          <p:nvSpPr>
            <p:cNvPr id="1559" name="TextBox 7"/>
            <p:cNvSpPr/>
            <p:nvPr/>
          </p:nvSpPr>
          <p:spPr>
            <a:xfrm>
              <a:off x="1187280" y="2179800"/>
              <a:ext cx="16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把一张纸的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60" name="TextBox 8"/>
            <p:cNvSpPr/>
            <p:nvPr/>
          </p:nvSpPr>
          <p:spPr>
            <a:xfrm>
              <a:off x="2836800" y="2222640"/>
              <a:ext cx="50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平均分成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，每份是这张纸的几分之几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61" name="组合 21510"/>
            <p:cNvGrpSpPr/>
            <p:nvPr/>
          </p:nvGrpSpPr>
          <p:grpSpPr>
            <a:xfrm>
              <a:off x="2585880" y="2060640"/>
              <a:ext cx="511200" cy="815040"/>
              <a:chOff x="2585880" y="2060640"/>
              <a:chExt cx="511200" cy="815040"/>
            </a:xfrm>
          </p:grpSpPr>
          <p:sp>
            <p:nvSpPr>
              <p:cNvPr id="1562" name="文本框 21511"/>
              <p:cNvSpPr/>
              <p:nvPr/>
            </p:nvSpPr>
            <p:spPr>
              <a:xfrm>
                <a:off x="2592360" y="2415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3" name="文本框 21512"/>
              <p:cNvSpPr/>
              <p:nvPr/>
            </p:nvSpPr>
            <p:spPr>
              <a:xfrm>
                <a:off x="2585880" y="2060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4" name="直接连接符 21513"/>
              <p:cNvSpPr/>
              <p:nvPr/>
            </p:nvSpPr>
            <p:spPr>
              <a:xfrm>
                <a:off x="2601720" y="24796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65" name="组合 21514"/>
          <p:cNvGrpSpPr/>
          <p:nvPr/>
        </p:nvGrpSpPr>
        <p:grpSpPr>
          <a:xfrm>
            <a:off x="1332000" y="4005360"/>
            <a:ext cx="2597760" cy="1009800"/>
            <a:chOff x="1332000" y="4005360"/>
            <a:chExt cx="2597760" cy="1009800"/>
          </a:xfrm>
        </p:grpSpPr>
        <p:grpSp>
          <p:nvGrpSpPr>
            <p:cNvPr id="1566" name="组合 21515"/>
            <p:cNvGrpSpPr/>
            <p:nvPr/>
          </p:nvGrpSpPr>
          <p:grpSpPr>
            <a:xfrm>
              <a:off x="1332000" y="4025880"/>
              <a:ext cx="510480" cy="815040"/>
              <a:chOff x="1332000" y="4025880"/>
              <a:chExt cx="510480" cy="815040"/>
            </a:xfrm>
          </p:grpSpPr>
          <p:sp>
            <p:nvSpPr>
              <p:cNvPr id="1567" name="文本框 21516"/>
              <p:cNvSpPr/>
              <p:nvPr/>
            </p:nvSpPr>
            <p:spPr>
              <a:xfrm>
                <a:off x="1338120" y="43812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8" name="文本框 21517"/>
              <p:cNvSpPr/>
              <p:nvPr/>
            </p:nvSpPr>
            <p:spPr>
              <a:xfrm>
                <a:off x="1332000" y="40258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9" name="直接连接符 21518"/>
              <p:cNvSpPr/>
              <p:nvPr/>
            </p:nvSpPr>
            <p:spPr>
              <a:xfrm>
                <a:off x="1347480" y="444492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70" name="文本框 21519"/>
            <p:cNvSpPr/>
            <p:nvPr/>
          </p:nvSpPr>
          <p:spPr>
            <a:xfrm>
              <a:off x="1562040" y="4189680"/>
              <a:ext cx="20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÷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            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71" name="组合 21520"/>
            <p:cNvGrpSpPr/>
            <p:nvPr/>
          </p:nvGrpSpPr>
          <p:grpSpPr>
            <a:xfrm>
              <a:off x="2382480" y="4014720"/>
              <a:ext cx="893520" cy="815400"/>
              <a:chOff x="2382480" y="4014720"/>
              <a:chExt cx="893520" cy="815400"/>
            </a:xfrm>
          </p:grpSpPr>
          <p:sp>
            <p:nvSpPr>
              <p:cNvPr id="1572" name="文本框 21521"/>
              <p:cNvSpPr/>
              <p:nvPr/>
            </p:nvSpPr>
            <p:spPr>
              <a:xfrm>
                <a:off x="2607840" y="43704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3" name="文本框 21522"/>
              <p:cNvSpPr/>
              <p:nvPr/>
            </p:nvSpPr>
            <p:spPr>
              <a:xfrm>
                <a:off x="2382480" y="4014720"/>
                <a:ext cx="89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÷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4" name="直接连接符 21523"/>
              <p:cNvSpPr/>
              <p:nvPr/>
            </p:nvSpPr>
            <p:spPr>
              <a:xfrm>
                <a:off x="2398320" y="4434120"/>
                <a:ext cx="659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75" name="组合 21524"/>
            <p:cNvGrpSpPr/>
            <p:nvPr/>
          </p:nvGrpSpPr>
          <p:grpSpPr>
            <a:xfrm>
              <a:off x="3419280" y="4005360"/>
              <a:ext cx="510480" cy="815040"/>
              <a:chOff x="3419280" y="4005360"/>
              <a:chExt cx="510480" cy="815040"/>
            </a:xfrm>
          </p:grpSpPr>
          <p:sp>
            <p:nvSpPr>
              <p:cNvPr id="1576" name="文本框 21525"/>
              <p:cNvSpPr/>
              <p:nvPr/>
            </p:nvSpPr>
            <p:spPr>
              <a:xfrm>
                <a:off x="3425400" y="436068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7" name="文本框 21526"/>
              <p:cNvSpPr/>
              <p:nvPr/>
            </p:nvSpPr>
            <p:spPr>
              <a:xfrm>
                <a:off x="3419280" y="40053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8" name="直接连接符 21527"/>
              <p:cNvSpPr/>
              <p:nvPr/>
            </p:nvSpPr>
            <p:spPr>
              <a:xfrm>
                <a:off x="3434760" y="44244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79" name="组合 21"/>
          <p:cNvGrpSpPr/>
          <p:nvPr/>
        </p:nvGrpSpPr>
        <p:grpSpPr>
          <a:xfrm>
            <a:off x="1403280" y="2781360"/>
            <a:ext cx="2143080" cy="1214280"/>
            <a:chOff x="1403280" y="2781360"/>
            <a:chExt cx="2143080" cy="1214280"/>
          </a:xfrm>
        </p:grpSpPr>
        <p:sp>
          <p:nvSpPr>
            <p:cNvPr id="1580" name="矩形 16"/>
            <p:cNvSpPr/>
            <p:nvPr/>
          </p:nvSpPr>
          <p:spPr>
            <a:xfrm>
              <a:off x="1403280" y="2781360"/>
              <a:ext cx="428400" cy="121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1" name="矩形 17"/>
            <p:cNvSpPr/>
            <p:nvPr/>
          </p:nvSpPr>
          <p:spPr>
            <a:xfrm>
              <a:off x="1831680" y="2781360"/>
              <a:ext cx="428400" cy="121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2" name="矩形 18"/>
            <p:cNvSpPr/>
            <p:nvPr/>
          </p:nvSpPr>
          <p:spPr>
            <a:xfrm>
              <a:off x="2260440" y="2781360"/>
              <a:ext cx="428400" cy="121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3" name="矩形 19"/>
            <p:cNvSpPr/>
            <p:nvPr/>
          </p:nvSpPr>
          <p:spPr>
            <a:xfrm>
              <a:off x="2689200" y="2781360"/>
              <a:ext cx="428400" cy="121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4" name="矩形 20"/>
            <p:cNvSpPr/>
            <p:nvPr/>
          </p:nvSpPr>
          <p:spPr>
            <a:xfrm>
              <a:off x="3117960" y="2781360"/>
              <a:ext cx="428400" cy="121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85" name="组合 21534"/>
          <p:cNvGrpSpPr/>
          <p:nvPr/>
        </p:nvGrpSpPr>
        <p:grpSpPr>
          <a:xfrm>
            <a:off x="1403280" y="2781360"/>
            <a:ext cx="1714680" cy="1214280"/>
            <a:chOff x="1403280" y="2781360"/>
            <a:chExt cx="1714680" cy="1214280"/>
          </a:xfrm>
        </p:grpSpPr>
        <p:sp>
          <p:nvSpPr>
            <p:cNvPr id="1586" name="矩形 16"/>
            <p:cNvSpPr/>
            <p:nvPr/>
          </p:nvSpPr>
          <p:spPr>
            <a:xfrm>
              <a:off x="1403280" y="2781360"/>
              <a:ext cx="428760" cy="12142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7" name="矩形 17"/>
            <p:cNvSpPr/>
            <p:nvPr/>
          </p:nvSpPr>
          <p:spPr>
            <a:xfrm>
              <a:off x="1832040" y="2781360"/>
              <a:ext cx="428400" cy="12142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8" name="矩形 18"/>
            <p:cNvSpPr/>
            <p:nvPr/>
          </p:nvSpPr>
          <p:spPr>
            <a:xfrm>
              <a:off x="2260440" y="2781360"/>
              <a:ext cx="428760" cy="12142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9" name="矩形 19"/>
            <p:cNvSpPr/>
            <p:nvPr/>
          </p:nvSpPr>
          <p:spPr>
            <a:xfrm>
              <a:off x="2689200" y="2781360"/>
              <a:ext cx="428760" cy="12142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90" name="组合 21539"/>
          <p:cNvGrpSpPr/>
          <p:nvPr/>
        </p:nvGrpSpPr>
        <p:grpSpPr>
          <a:xfrm>
            <a:off x="5311800" y="2708280"/>
            <a:ext cx="2143080" cy="1214280"/>
            <a:chOff x="5311800" y="2708280"/>
            <a:chExt cx="2143080" cy="1214280"/>
          </a:xfrm>
        </p:grpSpPr>
        <p:grpSp>
          <p:nvGrpSpPr>
            <p:cNvPr id="1591" name="组合 21540"/>
            <p:cNvGrpSpPr/>
            <p:nvPr/>
          </p:nvGrpSpPr>
          <p:grpSpPr>
            <a:xfrm>
              <a:off x="5311800" y="2708280"/>
              <a:ext cx="2143080" cy="1214280"/>
              <a:chOff x="5311800" y="2708280"/>
              <a:chExt cx="2143080" cy="1214280"/>
            </a:xfrm>
          </p:grpSpPr>
          <p:grpSp>
            <p:nvGrpSpPr>
              <p:cNvPr id="1592" name="组合 21"/>
              <p:cNvGrpSpPr/>
              <p:nvPr/>
            </p:nvGrpSpPr>
            <p:grpSpPr>
              <a:xfrm>
                <a:off x="5311800" y="2708280"/>
                <a:ext cx="2143080" cy="1214280"/>
                <a:chOff x="5311800" y="2708280"/>
                <a:chExt cx="2143080" cy="1214280"/>
              </a:xfrm>
            </p:grpSpPr>
            <p:sp>
              <p:nvSpPr>
                <p:cNvPr id="1593" name="矩形 16"/>
                <p:cNvSpPr/>
                <p:nvPr/>
              </p:nvSpPr>
              <p:spPr>
                <a:xfrm>
                  <a:off x="5311800" y="2708280"/>
                  <a:ext cx="428400" cy="121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94" name="矩形 17"/>
                <p:cNvSpPr/>
                <p:nvPr/>
              </p:nvSpPr>
              <p:spPr>
                <a:xfrm>
                  <a:off x="5740200" y="2708280"/>
                  <a:ext cx="428400" cy="121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95" name="矩形 18"/>
                <p:cNvSpPr/>
                <p:nvPr/>
              </p:nvSpPr>
              <p:spPr>
                <a:xfrm>
                  <a:off x="6168960" y="2708280"/>
                  <a:ext cx="428400" cy="121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96" name="矩形 19"/>
                <p:cNvSpPr/>
                <p:nvPr/>
              </p:nvSpPr>
              <p:spPr>
                <a:xfrm>
                  <a:off x="6597720" y="2708280"/>
                  <a:ext cx="428400" cy="121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97" name="矩形 20"/>
                <p:cNvSpPr/>
                <p:nvPr/>
              </p:nvSpPr>
              <p:spPr>
                <a:xfrm>
                  <a:off x="7026480" y="2708280"/>
                  <a:ext cx="428400" cy="1214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598" name="直接连接符 21547"/>
              <p:cNvSpPr/>
              <p:nvPr/>
            </p:nvSpPr>
            <p:spPr>
              <a:xfrm>
                <a:off x="5317920" y="3303360"/>
                <a:ext cx="212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99" name="组合 21548"/>
            <p:cNvGrpSpPr/>
            <p:nvPr/>
          </p:nvGrpSpPr>
          <p:grpSpPr>
            <a:xfrm>
              <a:off x="5321160" y="2708280"/>
              <a:ext cx="1714680" cy="1214280"/>
              <a:chOff x="5321160" y="2708280"/>
              <a:chExt cx="1714680" cy="1214280"/>
            </a:xfrm>
          </p:grpSpPr>
          <p:sp>
            <p:nvSpPr>
              <p:cNvPr id="1600" name="矩形 16"/>
              <p:cNvSpPr/>
              <p:nvPr/>
            </p:nvSpPr>
            <p:spPr>
              <a:xfrm>
                <a:off x="5321160" y="2708280"/>
                <a:ext cx="428760" cy="12142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1" name="矩形 17"/>
              <p:cNvSpPr/>
              <p:nvPr/>
            </p:nvSpPr>
            <p:spPr>
              <a:xfrm>
                <a:off x="5749920" y="2708280"/>
                <a:ext cx="428760" cy="12142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2" name="矩形 18"/>
              <p:cNvSpPr/>
              <p:nvPr/>
            </p:nvSpPr>
            <p:spPr>
              <a:xfrm>
                <a:off x="6178680" y="2708280"/>
                <a:ext cx="428400" cy="12142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3" name="矩形 19"/>
              <p:cNvSpPr/>
              <p:nvPr/>
            </p:nvSpPr>
            <p:spPr>
              <a:xfrm>
                <a:off x="6607080" y="2708280"/>
                <a:ext cx="428760" cy="121428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4" name="矩形 16"/>
              <p:cNvSpPr/>
              <p:nvPr/>
            </p:nvSpPr>
            <p:spPr>
              <a:xfrm>
                <a:off x="5321160" y="2708280"/>
                <a:ext cx="428760" cy="6109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5" name="矩形 16"/>
              <p:cNvSpPr/>
              <p:nvPr/>
            </p:nvSpPr>
            <p:spPr>
              <a:xfrm>
                <a:off x="5743440" y="2708280"/>
                <a:ext cx="428760" cy="6109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6" name="矩形 16"/>
              <p:cNvSpPr/>
              <p:nvPr/>
            </p:nvSpPr>
            <p:spPr>
              <a:xfrm>
                <a:off x="6180120" y="2708280"/>
                <a:ext cx="428760" cy="6109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7" name="矩形 16"/>
              <p:cNvSpPr/>
              <p:nvPr/>
            </p:nvSpPr>
            <p:spPr>
              <a:xfrm>
                <a:off x="6602400" y="2708280"/>
                <a:ext cx="428760" cy="6109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608" name="组合 21557"/>
          <p:cNvGrpSpPr/>
          <p:nvPr/>
        </p:nvGrpSpPr>
        <p:grpSpPr>
          <a:xfrm>
            <a:off x="5219640" y="3914640"/>
            <a:ext cx="3371760" cy="1011240"/>
            <a:chOff x="5219640" y="3914640"/>
            <a:chExt cx="3371760" cy="1011240"/>
          </a:xfrm>
        </p:grpSpPr>
        <p:grpSp>
          <p:nvGrpSpPr>
            <p:cNvPr id="1609" name="组合 21558"/>
            <p:cNvGrpSpPr/>
            <p:nvPr/>
          </p:nvGrpSpPr>
          <p:grpSpPr>
            <a:xfrm>
              <a:off x="5219640" y="3936960"/>
              <a:ext cx="511200" cy="815040"/>
              <a:chOff x="5219640" y="3936960"/>
              <a:chExt cx="511200" cy="815040"/>
            </a:xfrm>
          </p:grpSpPr>
          <p:sp>
            <p:nvSpPr>
              <p:cNvPr id="1610" name="文本框 21559"/>
              <p:cNvSpPr/>
              <p:nvPr/>
            </p:nvSpPr>
            <p:spPr>
              <a:xfrm>
                <a:off x="5226120" y="42922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1" name="文本框 21560"/>
              <p:cNvSpPr/>
              <p:nvPr/>
            </p:nvSpPr>
            <p:spPr>
              <a:xfrm>
                <a:off x="5219640" y="39369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2" name="直接连接符 21561"/>
              <p:cNvSpPr/>
              <p:nvPr/>
            </p:nvSpPr>
            <p:spPr>
              <a:xfrm>
                <a:off x="5235480" y="43560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13" name="文本框 21562"/>
            <p:cNvSpPr/>
            <p:nvPr/>
          </p:nvSpPr>
          <p:spPr>
            <a:xfrm>
              <a:off x="5449680" y="4100400"/>
              <a:ext cx="279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÷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      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14" name="组合 21563"/>
            <p:cNvGrpSpPr/>
            <p:nvPr/>
          </p:nvGrpSpPr>
          <p:grpSpPr>
            <a:xfrm>
              <a:off x="8080200" y="3914640"/>
              <a:ext cx="511200" cy="815040"/>
              <a:chOff x="8080200" y="3914640"/>
              <a:chExt cx="511200" cy="815040"/>
            </a:xfrm>
          </p:grpSpPr>
          <p:sp>
            <p:nvSpPr>
              <p:cNvPr id="1615" name="文本框 21564"/>
              <p:cNvSpPr/>
              <p:nvPr/>
            </p:nvSpPr>
            <p:spPr>
              <a:xfrm>
                <a:off x="8086680" y="4269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6" name="文本框 21565"/>
              <p:cNvSpPr/>
              <p:nvPr/>
            </p:nvSpPr>
            <p:spPr>
              <a:xfrm>
                <a:off x="8080200" y="3914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7" name="直接连接符 21566"/>
              <p:cNvSpPr/>
              <p:nvPr/>
            </p:nvSpPr>
            <p:spPr>
              <a:xfrm>
                <a:off x="8096040" y="43336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18" name="组合 21567"/>
            <p:cNvGrpSpPr/>
            <p:nvPr/>
          </p:nvGrpSpPr>
          <p:grpSpPr>
            <a:xfrm>
              <a:off x="6208560" y="3916440"/>
              <a:ext cx="511200" cy="815040"/>
              <a:chOff x="6208560" y="3916440"/>
              <a:chExt cx="511200" cy="815040"/>
            </a:xfrm>
          </p:grpSpPr>
          <p:sp>
            <p:nvSpPr>
              <p:cNvPr id="1619" name="文本框 21568"/>
              <p:cNvSpPr/>
              <p:nvPr/>
            </p:nvSpPr>
            <p:spPr>
              <a:xfrm>
                <a:off x="6215040" y="4271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0" name="文本框 21569"/>
              <p:cNvSpPr/>
              <p:nvPr/>
            </p:nvSpPr>
            <p:spPr>
              <a:xfrm>
                <a:off x="6208560" y="3916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1" name="直接连接符 21570"/>
              <p:cNvSpPr/>
              <p:nvPr/>
            </p:nvSpPr>
            <p:spPr>
              <a:xfrm>
                <a:off x="6224400" y="43354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22" name="组合 21571"/>
            <p:cNvGrpSpPr/>
            <p:nvPr/>
          </p:nvGrpSpPr>
          <p:grpSpPr>
            <a:xfrm>
              <a:off x="6827760" y="3916440"/>
              <a:ext cx="511200" cy="815040"/>
              <a:chOff x="6827760" y="3916440"/>
              <a:chExt cx="511200" cy="815040"/>
            </a:xfrm>
          </p:grpSpPr>
          <p:sp>
            <p:nvSpPr>
              <p:cNvPr id="1623" name="文本框 21572"/>
              <p:cNvSpPr/>
              <p:nvPr/>
            </p:nvSpPr>
            <p:spPr>
              <a:xfrm>
                <a:off x="6834240" y="4271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4" name="文本框 21573"/>
              <p:cNvSpPr/>
              <p:nvPr/>
            </p:nvSpPr>
            <p:spPr>
              <a:xfrm>
                <a:off x="6827760" y="3916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5" name="直接连接符 21574"/>
              <p:cNvSpPr/>
              <p:nvPr/>
            </p:nvSpPr>
            <p:spPr>
              <a:xfrm>
                <a:off x="6843600" y="43354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26" name="组合 21575"/>
            <p:cNvGrpSpPr/>
            <p:nvPr/>
          </p:nvGrpSpPr>
          <p:grpSpPr>
            <a:xfrm>
              <a:off x="7361280" y="3916440"/>
              <a:ext cx="504720" cy="815040"/>
              <a:chOff x="7361280" y="3916440"/>
              <a:chExt cx="504720" cy="815040"/>
            </a:xfrm>
          </p:grpSpPr>
          <p:sp>
            <p:nvSpPr>
              <p:cNvPr id="1627" name="文本框 21576"/>
              <p:cNvSpPr/>
              <p:nvPr/>
            </p:nvSpPr>
            <p:spPr>
              <a:xfrm>
                <a:off x="7361280" y="4271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8" name="文本框 21577"/>
              <p:cNvSpPr/>
              <p:nvPr/>
            </p:nvSpPr>
            <p:spPr>
              <a:xfrm>
                <a:off x="7450200" y="3916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9" name="直接连接符 21578"/>
              <p:cNvSpPr/>
              <p:nvPr/>
            </p:nvSpPr>
            <p:spPr>
              <a:xfrm>
                <a:off x="7427880" y="43351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630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二、教学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除以整数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1" name="TextBox 6"/>
          <p:cNvSpPr/>
          <p:nvPr/>
        </p:nvSpPr>
        <p:spPr>
          <a:xfrm>
            <a:off x="395280" y="1413000"/>
            <a:ext cx="5977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引入情境，探究新知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2" name="矩形 21581"/>
          <p:cNvSpPr/>
          <p:nvPr/>
        </p:nvSpPr>
        <p:spPr>
          <a:xfrm>
            <a:off x="18720" y="4432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3" name="ShockwaveFlash1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1634" name="图片 22530" descr=""/>
          <p:cNvPicPr/>
          <p:nvPr/>
        </p:nvPicPr>
        <p:blipFill>
          <a:blip r:embed="rId2"/>
          <a:stretch/>
        </p:blipFill>
        <p:spPr>
          <a:xfrm>
            <a:off x="343080" y="271440"/>
            <a:ext cx="8400960" cy="62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TextBox 6"/>
          <p:cNvSpPr/>
          <p:nvPr/>
        </p:nvSpPr>
        <p:spPr>
          <a:xfrm>
            <a:off x="395280" y="1413000"/>
            <a:ext cx="6087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自主操作，深入理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6" name="Rectangle 2"/>
          <p:cNvSpPr/>
          <p:nvPr/>
        </p:nvSpPr>
        <p:spPr>
          <a:xfrm>
            <a:off x="142920" y="4572000"/>
            <a:ext cx="84297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用算式表示出刚才折或画的过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7" name="Rectangle 2"/>
          <p:cNvSpPr/>
          <p:nvPr/>
        </p:nvSpPr>
        <p:spPr>
          <a:xfrm>
            <a:off x="447840" y="5753160"/>
            <a:ext cx="8429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比较两种解法，你有什么想法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8" name="Rectangle 2"/>
          <p:cNvSpPr/>
          <p:nvPr/>
        </p:nvSpPr>
        <p:spPr>
          <a:xfrm>
            <a:off x="919080" y="5095800"/>
            <a:ext cx="84297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结合画好的图，说说你的计算过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出示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时）你遇到了什么问题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9" name="矩形 29"/>
          <p:cNvSpPr/>
          <p:nvPr/>
        </p:nvSpPr>
        <p:spPr>
          <a:xfrm>
            <a:off x="855720" y="622764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根据上面的折纸实验和算式，你能发现什么规律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0" name="矩形 22"/>
          <p:cNvSpPr/>
          <p:nvPr/>
        </p:nvSpPr>
        <p:spPr>
          <a:xfrm>
            <a:off x="5003640" y="544680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出示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说说你的想法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41" name="组合 23559"/>
          <p:cNvGrpSpPr/>
          <p:nvPr/>
        </p:nvGrpSpPr>
        <p:grpSpPr>
          <a:xfrm>
            <a:off x="1187280" y="1989000"/>
            <a:ext cx="6650280" cy="815040"/>
            <a:chOff x="1187280" y="1989000"/>
            <a:chExt cx="6650280" cy="815040"/>
          </a:xfrm>
        </p:grpSpPr>
        <p:sp>
          <p:nvSpPr>
            <p:cNvPr id="1642" name="TextBox 7"/>
            <p:cNvSpPr/>
            <p:nvPr/>
          </p:nvSpPr>
          <p:spPr>
            <a:xfrm>
              <a:off x="1187280" y="2108160"/>
              <a:ext cx="16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把一张纸的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43" name="TextBox 8"/>
            <p:cNvSpPr/>
            <p:nvPr/>
          </p:nvSpPr>
          <p:spPr>
            <a:xfrm>
              <a:off x="2836800" y="2151000"/>
              <a:ext cx="50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平均分成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，每份是这张纸的几分之几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44" name="组合 23562"/>
            <p:cNvGrpSpPr/>
            <p:nvPr/>
          </p:nvGrpSpPr>
          <p:grpSpPr>
            <a:xfrm>
              <a:off x="2585880" y="1989000"/>
              <a:ext cx="511200" cy="815040"/>
              <a:chOff x="2585880" y="1989000"/>
              <a:chExt cx="511200" cy="815040"/>
            </a:xfrm>
          </p:grpSpPr>
          <p:sp>
            <p:nvSpPr>
              <p:cNvPr id="1645" name="文本框 23563"/>
              <p:cNvSpPr/>
              <p:nvPr/>
            </p:nvSpPr>
            <p:spPr>
              <a:xfrm>
                <a:off x="2592360" y="2344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6" name="文本框 23564"/>
              <p:cNvSpPr/>
              <p:nvPr/>
            </p:nvSpPr>
            <p:spPr>
              <a:xfrm>
                <a:off x="2585880" y="1989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7" name="直接连接符 23565"/>
              <p:cNvSpPr/>
              <p:nvPr/>
            </p:nvSpPr>
            <p:spPr>
              <a:xfrm>
                <a:off x="2601720" y="2408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1648" name="图片 23566" descr="30"/>
          <p:cNvPicPr/>
          <p:nvPr/>
        </p:nvPicPr>
        <p:blipFill>
          <a:blip r:embed="rId1"/>
          <a:stretch/>
        </p:blipFill>
        <p:spPr>
          <a:xfrm>
            <a:off x="1177920" y="2743200"/>
            <a:ext cx="2324160" cy="1438200"/>
          </a:xfrm>
          <a:prstGeom prst="rect">
            <a:avLst/>
          </a:prstGeom>
          <a:ln w="0">
            <a:noFill/>
          </a:ln>
        </p:spPr>
      </p:pic>
      <p:grpSp>
        <p:nvGrpSpPr>
          <p:cNvPr id="1649" name="组合 23567"/>
          <p:cNvGrpSpPr/>
          <p:nvPr/>
        </p:nvGrpSpPr>
        <p:grpSpPr>
          <a:xfrm>
            <a:off x="4357800" y="2556000"/>
            <a:ext cx="3958920" cy="1000080"/>
            <a:chOff x="4357800" y="2556000"/>
            <a:chExt cx="3958920" cy="1000080"/>
          </a:xfrm>
        </p:grpSpPr>
        <p:sp>
          <p:nvSpPr>
            <p:cNvPr id="1650" name="TextBox 6"/>
            <p:cNvSpPr/>
            <p:nvPr/>
          </p:nvSpPr>
          <p:spPr>
            <a:xfrm>
              <a:off x="4357800" y="27320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51" name="组合 23569"/>
            <p:cNvGrpSpPr/>
            <p:nvPr/>
          </p:nvGrpSpPr>
          <p:grpSpPr>
            <a:xfrm>
              <a:off x="5364000" y="2556000"/>
              <a:ext cx="2952720" cy="1000080"/>
              <a:chOff x="5364000" y="2556000"/>
              <a:chExt cx="2952720" cy="1000080"/>
            </a:xfrm>
          </p:grpSpPr>
          <p:grpSp>
            <p:nvGrpSpPr>
              <p:cNvPr id="1652" name="组合 23570"/>
              <p:cNvGrpSpPr/>
              <p:nvPr/>
            </p:nvGrpSpPr>
            <p:grpSpPr>
              <a:xfrm>
                <a:off x="5364000" y="2567160"/>
                <a:ext cx="511200" cy="815040"/>
                <a:chOff x="5364000" y="2567160"/>
                <a:chExt cx="511200" cy="815040"/>
              </a:xfrm>
            </p:grpSpPr>
            <p:sp>
              <p:nvSpPr>
                <p:cNvPr id="1653" name="文本框 23571"/>
                <p:cNvSpPr/>
                <p:nvPr/>
              </p:nvSpPr>
              <p:spPr>
                <a:xfrm>
                  <a:off x="5370480" y="29224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54" name="文本框 23572"/>
                <p:cNvSpPr/>
                <p:nvPr/>
              </p:nvSpPr>
              <p:spPr>
                <a:xfrm>
                  <a:off x="5364000" y="25671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55" name="直接连接符 23573"/>
                <p:cNvSpPr/>
                <p:nvPr/>
              </p:nvSpPr>
              <p:spPr>
                <a:xfrm>
                  <a:off x="5379840" y="298620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656" name="文本框 23574"/>
              <p:cNvSpPr/>
              <p:nvPr/>
            </p:nvSpPr>
            <p:spPr>
              <a:xfrm>
                <a:off x="5594400" y="2730600"/>
                <a:ext cx="2722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÷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            ＝？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657" name="组合 23575"/>
              <p:cNvGrpSpPr/>
              <p:nvPr/>
            </p:nvGrpSpPr>
            <p:grpSpPr>
              <a:xfrm>
                <a:off x="6414840" y="2556000"/>
                <a:ext cx="893880" cy="815040"/>
                <a:chOff x="6414840" y="2556000"/>
                <a:chExt cx="893880" cy="815040"/>
              </a:xfrm>
            </p:grpSpPr>
            <p:sp>
              <p:nvSpPr>
                <p:cNvPr id="1658" name="文本框 23576"/>
                <p:cNvSpPr/>
                <p:nvPr/>
              </p:nvSpPr>
              <p:spPr>
                <a:xfrm>
                  <a:off x="6640560" y="29113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59" name="文本框 23577"/>
                <p:cNvSpPr/>
                <p:nvPr/>
              </p:nvSpPr>
              <p:spPr>
                <a:xfrm>
                  <a:off x="6414840" y="2556000"/>
                  <a:ext cx="89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÷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0" name="直接连接符 23578"/>
                <p:cNvSpPr/>
                <p:nvPr/>
              </p:nvSpPr>
              <p:spPr>
                <a:xfrm>
                  <a:off x="6431040" y="2975040"/>
                  <a:ext cx="660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1661" name="组合 23579"/>
          <p:cNvGrpSpPr/>
          <p:nvPr/>
        </p:nvGrpSpPr>
        <p:grpSpPr>
          <a:xfrm>
            <a:off x="4357800" y="3405240"/>
            <a:ext cx="4025880" cy="1009440"/>
            <a:chOff x="4357800" y="3405240"/>
            <a:chExt cx="4025880" cy="1009440"/>
          </a:xfrm>
        </p:grpSpPr>
        <p:sp>
          <p:nvSpPr>
            <p:cNvPr id="1662" name="TextBox 6"/>
            <p:cNvSpPr/>
            <p:nvPr/>
          </p:nvSpPr>
          <p:spPr>
            <a:xfrm>
              <a:off x="4357800" y="3589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63" name="组合 23581"/>
            <p:cNvGrpSpPr/>
            <p:nvPr/>
          </p:nvGrpSpPr>
          <p:grpSpPr>
            <a:xfrm>
              <a:off x="5359320" y="3405240"/>
              <a:ext cx="3024360" cy="1009440"/>
              <a:chOff x="5359320" y="3405240"/>
              <a:chExt cx="3024360" cy="1009440"/>
            </a:xfrm>
          </p:grpSpPr>
          <p:grpSp>
            <p:nvGrpSpPr>
              <p:cNvPr id="1664" name="组合 23582"/>
              <p:cNvGrpSpPr/>
              <p:nvPr/>
            </p:nvGrpSpPr>
            <p:grpSpPr>
              <a:xfrm>
                <a:off x="5359320" y="3425760"/>
                <a:ext cx="511200" cy="815040"/>
                <a:chOff x="5359320" y="3425760"/>
                <a:chExt cx="511200" cy="815040"/>
              </a:xfrm>
            </p:grpSpPr>
            <p:sp>
              <p:nvSpPr>
                <p:cNvPr id="1665" name="文本框 23583"/>
                <p:cNvSpPr/>
                <p:nvPr/>
              </p:nvSpPr>
              <p:spPr>
                <a:xfrm>
                  <a:off x="5365800" y="37810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6" name="文本框 23584"/>
                <p:cNvSpPr/>
                <p:nvPr/>
              </p:nvSpPr>
              <p:spPr>
                <a:xfrm>
                  <a:off x="5359320" y="34257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7" name="直接连接符 23585"/>
                <p:cNvSpPr/>
                <p:nvPr/>
              </p:nvSpPr>
              <p:spPr>
                <a:xfrm>
                  <a:off x="5375160" y="384480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668" name="文本框 23586"/>
              <p:cNvSpPr/>
              <p:nvPr/>
            </p:nvSpPr>
            <p:spPr>
              <a:xfrm>
                <a:off x="5589720" y="3589200"/>
                <a:ext cx="2793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÷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×  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 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669" name="组合 23587"/>
              <p:cNvGrpSpPr/>
              <p:nvPr/>
            </p:nvGrpSpPr>
            <p:grpSpPr>
              <a:xfrm>
                <a:off x="6348600" y="3405240"/>
                <a:ext cx="511200" cy="815040"/>
                <a:chOff x="6348600" y="3405240"/>
                <a:chExt cx="511200" cy="815040"/>
              </a:xfrm>
            </p:grpSpPr>
            <p:sp>
              <p:nvSpPr>
                <p:cNvPr id="1670" name="文本框 23588"/>
                <p:cNvSpPr/>
                <p:nvPr/>
              </p:nvSpPr>
              <p:spPr>
                <a:xfrm>
                  <a:off x="6355080" y="37605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1" name="文本框 23589"/>
                <p:cNvSpPr/>
                <p:nvPr/>
              </p:nvSpPr>
              <p:spPr>
                <a:xfrm>
                  <a:off x="6348600" y="34052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2" name="直接连接符 23590"/>
                <p:cNvSpPr/>
                <p:nvPr/>
              </p:nvSpPr>
              <p:spPr>
                <a:xfrm>
                  <a:off x="6364440" y="38242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673" name="组合 23591"/>
              <p:cNvGrpSpPr/>
              <p:nvPr/>
            </p:nvGrpSpPr>
            <p:grpSpPr>
              <a:xfrm>
                <a:off x="6967800" y="3405240"/>
                <a:ext cx="510480" cy="815040"/>
                <a:chOff x="6967800" y="3405240"/>
                <a:chExt cx="510480" cy="815040"/>
              </a:xfrm>
            </p:grpSpPr>
            <p:sp>
              <p:nvSpPr>
                <p:cNvPr id="1674" name="文本框 23592"/>
                <p:cNvSpPr/>
                <p:nvPr/>
              </p:nvSpPr>
              <p:spPr>
                <a:xfrm>
                  <a:off x="6973920" y="376056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5" name="文本框 23593"/>
                <p:cNvSpPr/>
                <p:nvPr/>
              </p:nvSpPr>
              <p:spPr>
                <a:xfrm>
                  <a:off x="6967800" y="340524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6" name="直接连接符 23594"/>
                <p:cNvSpPr/>
                <p:nvPr/>
              </p:nvSpPr>
              <p:spPr>
                <a:xfrm>
                  <a:off x="6983280" y="382428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677" name="组合 23595"/>
              <p:cNvGrpSpPr/>
              <p:nvPr/>
            </p:nvGrpSpPr>
            <p:grpSpPr>
              <a:xfrm>
                <a:off x="7500960" y="3405240"/>
                <a:ext cx="504720" cy="815400"/>
                <a:chOff x="7500960" y="3405240"/>
                <a:chExt cx="504720" cy="815400"/>
              </a:xfrm>
            </p:grpSpPr>
            <p:sp>
              <p:nvSpPr>
                <p:cNvPr id="1678" name="文本框 23596"/>
                <p:cNvSpPr/>
                <p:nvPr/>
              </p:nvSpPr>
              <p:spPr>
                <a:xfrm>
                  <a:off x="7500960" y="37609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9" name="文本框 23597"/>
                <p:cNvSpPr/>
                <p:nvPr/>
              </p:nvSpPr>
              <p:spPr>
                <a:xfrm>
                  <a:off x="7589880" y="34052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0" name="直接连接符 23598"/>
                <p:cNvSpPr/>
                <p:nvPr/>
              </p:nvSpPr>
              <p:spPr>
                <a:xfrm>
                  <a:off x="7567560" y="38242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1681" name="组合 23599"/>
          <p:cNvGrpSpPr/>
          <p:nvPr/>
        </p:nvGrpSpPr>
        <p:grpSpPr>
          <a:xfrm>
            <a:off x="142920" y="4149720"/>
            <a:ext cx="8429760" cy="815040"/>
            <a:chOff x="142920" y="4149720"/>
            <a:chExt cx="8429760" cy="815040"/>
          </a:xfrm>
        </p:grpSpPr>
        <p:sp>
          <p:nvSpPr>
            <p:cNvPr id="1682" name="Rectangle 2"/>
            <p:cNvSpPr/>
            <p:nvPr/>
          </p:nvSpPr>
          <p:spPr>
            <a:xfrm>
              <a:off x="142920" y="4214880"/>
              <a:ext cx="84297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问题：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借助手中的学具，折一折，画一画，表示出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÷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的意义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83" name="组合 23601"/>
            <p:cNvGrpSpPr/>
            <p:nvPr/>
          </p:nvGrpSpPr>
          <p:grpSpPr>
            <a:xfrm>
              <a:off x="6184800" y="4149720"/>
              <a:ext cx="511200" cy="815040"/>
              <a:chOff x="6184800" y="4149720"/>
              <a:chExt cx="511200" cy="815040"/>
            </a:xfrm>
          </p:grpSpPr>
          <p:sp>
            <p:nvSpPr>
              <p:cNvPr id="1684" name="文本框 23602"/>
              <p:cNvSpPr/>
              <p:nvPr/>
            </p:nvSpPr>
            <p:spPr>
              <a:xfrm>
                <a:off x="6191280" y="4505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5" name="文本框 23603"/>
              <p:cNvSpPr/>
              <p:nvPr/>
            </p:nvSpPr>
            <p:spPr>
              <a:xfrm>
                <a:off x="6184800" y="4149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6" name="直接连接符 23604"/>
              <p:cNvSpPr/>
              <p:nvPr/>
            </p:nvSpPr>
            <p:spPr>
              <a:xfrm>
                <a:off x="6200640" y="45687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687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二、教学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除以整数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TextBox 15"/>
          <p:cNvSpPr/>
          <p:nvPr/>
        </p:nvSpPr>
        <p:spPr>
          <a:xfrm>
            <a:off x="1360440" y="220500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计算下面各题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9" name="TextBox 6"/>
          <p:cNvSpPr/>
          <p:nvPr/>
        </p:nvSpPr>
        <p:spPr>
          <a:xfrm>
            <a:off x="395280" y="1413000"/>
            <a:ext cx="3643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三）巩固练习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90" name="组合 24579"/>
          <p:cNvGrpSpPr/>
          <p:nvPr/>
        </p:nvGrpSpPr>
        <p:grpSpPr>
          <a:xfrm>
            <a:off x="1424160" y="2882880"/>
            <a:ext cx="3434040" cy="1011240"/>
            <a:chOff x="1424160" y="2882880"/>
            <a:chExt cx="3434040" cy="1011240"/>
          </a:xfrm>
        </p:grpSpPr>
        <p:grpSp>
          <p:nvGrpSpPr>
            <p:cNvPr id="1691" name="组合 24580"/>
            <p:cNvGrpSpPr/>
            <p:nvPr/>
          </p:nvGrpSpPr>
          <p:grpSpPr>
            <a:xfrm>
              <a:off x="1424160" y="2882880"/>
              <a:ext cx="3434040" cy="1011240"/>
              <a:chOff x="1424160" y="2882880"/>
              <a:chExt cx="3434040" cy="1011240"/>
            </a:xfrm>
          </p:grpSpPr>
          <p:sp>
            <p:nvSpPr>
              <p:cNvPr id="1692" name="文本框 24581"/>
              <p:cNvSpPr/>
              <p:nvPr/>
            </p:nvSpPr>
            <p:spPr>
              <a:xfrm>
                <a:off x="1424160" y="32432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693" name="组合 24582"/>
              <p:cNvGrpSpPr/>
              <p:nvPr/>
            </p:nvGrpSpPr>
            <p:grpSpPr>
              <a:xfrm>
                <a:off x="1506240" y="2882880"/>
                <a:ext cx="3351960" cy="1011240"/>
                <a:chOff x="1506240" y="2882880"/>
                <a:chExt cx="3351960" cy="1011240"/>
              </a:xfrm>
            </p:grpSpPr>
            <p:sp>
              <p:nvSpPr>
                <p:cNvPr id="1694" name="文本框 24583"/>
                <p:cNvSpPr/>
                <p:nvPr/>
              </p:nvSpPr>
              <p:spPr>
                <a:xfrm>
                  <a:off x="1506240" y="290520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9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95" name="文本框 24584"/>
                <p:cNvSpPr/>
                <p:nvPr/>
              </p:nvSpPr>
              <p:spPr>
                <a:xfrm>
                  <a:off x="1736280" y="3068640"/>
                  <a:ext cx="27936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÷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   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×    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      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696" name="组合 24585"/>
                <p:cNvGrpSpPr/>
                <p:nvPr/>
              </p:nvGrpSpPr>
              <p:grpSpPr>
                <a:xfrm>
                  <a:off x="2318760" y="2895480"/>
                  <a:ext cx="1029600" cy="823320"/>
                  <a:chOff x="2318760" y="2895480"/>
                  <a:chExt cx="1029600" cy="823320"/>
                </a:xfrm>
              </p:grpSpPr>
              <p:grpSp>
                <p:nvGrpSpPr>
                  <p:cNvPr id="1697" name="组合 24586"/>
                  <p:cNvGrpSpPr/>
                  <p:nvPr/>
                </p:nvGrpSpPr>
                <p:grpSpPr>
                  <a:xfrm>
                    <a:off x="2318760" y="2895480"/>
                    <a:ext cx="1029600" cy="823320"/>
                    <a:chOff x="2318760" y="2895480"/>
                    <a:chExt cx="1029600" cy="823320"/>
                  </a:xfrm>
                </p:grpSpPr>
                <p:sp>
                  <p:nvSpPr>
                    <p:cNvPr id="1698" name="文本框 24587"/>
                    <p:cNvSpPr/>
                    <p:nvPr/>
                  </p:nvSpPr>
                  <p:spPr>
                    <a:xfrm>
                      <a:off x="2318760" y="3259080"/>
                      <a:ext cx="10202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（   ）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99" name="文本框 24588"/>
                    <p:cNvSpPr/>
                    <p:nvPr/>
                  </p:nvSpPr>
                  <p:spPr>
                    <a:xfrm>
                      <a:off x="2327760" y="2895480"/>
                      <a:ext cx="1020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（   ）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700" name="直接连接符 24589"/>
                  <p:cNvSpPr/>
                  <p:nvPr/>
                </p:nvSpPr>
                <p:spPr>
                  <a:xfrm>
                    <a:off x="2562840" y="3322800"/>
                    <a:ext cx="431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701" name="组合 24590"/>
                <p:cNvGrpSpPr/>
                <p:nvPr/>
              </p:nvGrpSpPr>
              <p:grpSpPr>
                <a:xfrm>
                  <a:off x="3094920" y="2892600"/>
                  <a:ext cx="1029600" cy="822960"/>
                  <a:chOff x="3094920" y="2892600"/>
                  <a:chExt cx="1029600" cy="822960"/>
                </a:xfrm>
              </p:grpSpPr>
              <p:grpSp>
                <p:nvGrpSpPr>
                  <p:cNvPr id="1702" name="组合 24591"/>
                  <p:cNvGrpSpPr/>
                  <p:nvPr/>
                </p:nvGrpSpPr>
                <p:grpSpPr>
                  <a:xfrm>
                    <a:off x="3094920" y="2892600"/>
                    <a:ext cx="1029600" cy="822960"/>
                    <a:chOff x="3094920" y="2892600"/>
                    <a:chExt cx="1029600" cy="822960"/>
                  </a:xfrm>
                </p:grpSpPr>
                <p:sp>
                  <p:nvSpPr>
                    <p:cNvPr id="1703" name="文本框 24592"/>
                    <p:cNvSpPr/>
                    <p:nvPr/>
                  </p:nvSpPr>
                  <p:spPr>
                    <a:xfrm>
                      <a:off x="3094920" y="3255840"/>
                      <a:ext cx="10202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（   ）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704" name="文本框 24593"/>
                    <p:cNvSpPr/>
                    <p:nvPr/>
                  </p:nvSpPr>
                  <p:spPr>
                    <a:xfrm>
                      <a:off x="3103920" y="2892600"/>
                      <a:ext cx="1020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（   ）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705" name="直接连接符 24594"/>
                  <p:cNvSpPr/>
                  <p:nvPr/>
                </p:nvSpPr>
                <p:spPr>
                  <a:xfrm>
                    <a:off x="3339360" y="3319560"/>
                    <a:ext cx="431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706" name="组合 24595"/>
                <p:cNvGrpSpPr/>
                <p:nvPr/>
              </p:nvGrpSpPr>
              <p:grpSpPr>
                <a:xfrm>
                  <a:off x="3828600" y="2882880"/>
                  <a:ext cx="1029600" cy="822960"/>
                  <a:chOff x="3828600" y="2882880"/>
                  <a:chExt cx="1029600" cy="822960"/>
                </a:xfrm>
              </p:grpSpPr>
              <p:grpSp>
                <p:nvGrpSpPr>
                  <p:cNvPr id="1707" name="组合 24596"/>
                  <p:cNvGrpSpPr/>
                  <p:nvPr/>
                </p:nvGrpSpPr>
                <p:grpSpPr>
                  <a:xfrm>
                    <a:off x="3828600" y="2882880"/>
                    <a:ext cx="1029600" cy="822960"/>
                    <a:chOff x="3828600" y="2882880"/>
                    <a:chExt cx="1029600" cy="822960"/>
                  </a:xfrm>
                </p:grpSpPr>
                <p:sp>
                  <p:nvSpPr>
                    <p:cNvPr id="1708" name="文本框 24597"/>
                    <p:cNvSpPr/>
                    <p:nvPr/>
                  </p:nvSpPr>
                  <p:spPr>
                    <a:xfrm>
                      <a:off x="3828600" y="3246120"/>
                      <a:ext cx="10202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（   ）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709" name="文本框 24598"/>
                    <p:cNvSpPr/>
                    <p:nvPr/>
                  </p:nvSpPr>
                  <p:spPr>
                    <a:xfrm>
                      <a:off x="3837600" y="2882880"/>
                      <a:ext cx="1020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（   ）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710" name="直接连接符 24599"/>
                  <p:cNvSpPr/>
                  <p:nvPr/>
                </p:nvSpPr>
                <p:spPr>
                  <a:xfrm>
                    <a:off x="4073040" y="3309840"/>
                    <a:ext cx="431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11" name="直接连接符 24600"/>
            <p:cNvSpPr/>
            <p:nvPr/>
          </p:nvSpPr>
          <p:spPr>
            <a:xfrm>
              <a:off x="1522080" y="332424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12" name="组合 24601"/>
          <p:cNvGrpSpPr/>
          <p:nvPr/>
        </p:nvGrpSpPr>
        <p:grpSpPr>
          <a:xfrm>
            <a:off x="2548080" y="2892600"/>
            <a:ext cx="647640" cy="818280"/>
            <a:chOff x="2548080" y="2892600"/>
            <a:chExt cx="647640" cy="818280"/>
          </a:xfrm>
        </p:grpSpPr>
        <p:sp>
          <p:nvSpPr>
            <p:cNvPr id="1713" name="文本框 24602"/>
            <p:cNvSpPr/>
            <p:nvPr/>
          </p:nvSpPr>
          <p:spPr>
            <a:xfrm>
              <a:off x="2638440" y="2892600"/>
              <a:ext cx="2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4" name="文本框 24603"/>
            <p:cNvSpPr/>
            <p:nvPr/>
          </p:nvSpPr>
          <p:spPr>
            <a:xfrm>
              <a:off x="2548080" y="32511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15" name="组合 24604"/>
          <p:cNvGrpSpPr/>
          <p:nvPr/>
        </p:nvGrpSpPr>
        <p:grpSpPr>
          <a:xfrm>
            <a:off x="3397320" y="2892600"/>
            <a:ext cx="648720" cy="818280"/>
            <a:chOff x="3397320" y="2892600"/>
            <a:chExt cx="648720" cy="818280"/>
          </a:xfrm>
        </p:grpSpPr>
        <p:sp>
          <p:nvSpPr>
            <p:cNvPr id="1716" name="文本框 24605"/>
            <p:cNvSpPr/>
            <p:nvPr/>
          </p:nvSpPr>
          <p:spPr>
            <a:xfrm>
              <a:off x="3397320" y="2892600"/>
              <a:ext cx="2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7" name="文本框 24606"/>
            <p:cNvSpPr/>
            <p:nvPr/>
          </p:nvSpPr>
          <p:spPr>
            <a:xfrm>
              <a:off x="3398400" y="32511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18" name="组合 24607"/>
          <p:cNvGrpSpPr/>
          <p:nvPr/>
        </p:nvGrpSpPr>
        <p:grpSpPr>
          <a:xfrm>
            <a:off x="4044960" y="2882880"/>
            <a:ext cx="647640" cy="818280"/>
            <a:chOff x="4044960" y="2882880"/>
            <a:chExt cx="647640" cy="818280"/>
          </a:xfrm>
        </p:grpSpPr>
        <p:sp>
          <p:nvSpPr>
            <p:cNvPr id="1719" name="文本框 24608"/>
            <p:cNvSpPr/>
            <p:nvPr/>
          </p:nvSpPr>
          <p:spPr>
            <a:xfrm>
              <a:off x="4135320" y="2882880"/>
              <a:ext cx="2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20" name="文本框 24609"/>
            <p:cNvSpPr/>
            <p:nvPr/>
          </p:nvSpPr>
          <p:spPr>
            <a:xfrm>
              <a:off x="4044960" y="32414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21" name="组合 24610"/>
          <p:cNvGrpSpPr/>
          <p:nvPr/>
        </p:nvGrpSpPr>
        <p:grpSpPr>
          <a:xfrm>
            <a:off x="1479600" y="3860640"/>
            <a:ext cx="3358440" cy="1011240"/>
            <a:chOff x="1479600" y="3860640"/>
            <a:chExt cx="3358440" cy="1011240"/>
          </a:xfrm>
        </p:grpSpPr>
        <p:sp>
          <p:nvSpPr>
            <p:cNvPr id="1722" name="文本框 24611"/>
            <p:cNvSpPr/>
            <p:nvPr/>
          </p:nvSpPr>
          <p:spPr>
            <a:xfrm>
              <a:off x="1479600" y="4221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23" name="组合 24612"/>
            <p:cNvGrpSpPr/>
            <p:nvPr/>
          </p:nvGrpSpPr>
          <p:grpSpPr>
            <a:xfrm>
              <a:off x="1486080" y="3860640"/>
              <a:ext cx="3351960" cy="1011240"/>
              <a:chOff x="1486080" y="3860640"/>
              <a:chExt cx="3351960" cy="1011240"/>
            </a:xfrm>
          </p:grpSpPr>
          <p:sp>
            <p:nvSpPr>
              <p:cNvPr id="1724" name="文本框 24613"/>
              <p:cNvSpPr/>
              <p:nvPr/>
            </p:nvSpPr>
            <p:spPr>
              <a:xfrm>
                <a:off x="1486080" y="38829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25" name="文本框 24614"/>
              <p:cNvSpPr/>
              <p:nvPr/>
            </p:nvSpPr>
            <p:spPr>
              <a:xfrm>
                <a:off x="1716120" y="4046400"/>
                <a:ext cx="2793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÷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   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×    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      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26" name="组合 24615"/>
              <p:cNvGrpSpPr/>
              <p:nvPr/>
            </p:nvGrpSpPr>
            <p:grpSpPr>
              <a:xfrm>
                <a:off x="2298600" y="3873240"/>
                <a:ext cx="1029600" cy="823320"/>
                <a:chOff x="2298600" y="3873240"/>
                <a:chExt cx="1029600" cy="823320"/>
              </a:xfrm>
            </p:grpSpPr>
            <p:grpSp>
              <p:nvGrpSpPr>
                <p:cNvPr id="1727" name="组合 24616"/>
                <p:cNvGrpSpPr/>
                <p:nvPr/>
              </p:nvGrpSpPr>
              <p:grpSpPr>
                <a:xfrm>
                  <a:off x="2298600" y="3873240"/>
                  <a:ext cx="1029600" cy="823320"/>
                  <a:chOff x="2298600" y="3873240"/>
                  <a:chExt cx="1029600" cy="823320"/>
                </a:xfrm>
              </p:grpSpPr>
              <p:sp>
                <p:nvSpPr>
                  <p:cNvPr id="1728" name="文本框 24617"/>
                  <p:cNvSpPr/>
                  <p:nvPr/>
                </p:nvSpPr>
                <p:spPr>
                  <a:xfrm>
                    <a:off x="2298600" y="4236840"/>
                    <a:ext cx="1020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（   ）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29" name="文本框 24618"/>
                  <p:cNvSpPr/>
                  <p:nvPr/>
                </p:nvSpPr>
                <p:spPr>
                  <a:xfrm>
                    <a:off x="2307600" y="3873240"/>
                    <a:ext cx="1020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（   ）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730" name="直接连接符 24619"/>
                <p:cNvSpPr/>
                <p:nvPr/>
              </p:nvSpPr>
              <p:spPr>
                <a:xfrm>
                  <a:off x="2542680" y="4300560"/>
                  <a:ext cx="431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731" name="组合 24620"/>
              <p:cNvGrpSpPr/>
              <p:nvPr/>
            </p:nvGrpSpPr>
            <p:grpSpPr>
              <a:xfrm>
                <a:off x="3074760" y="3870360"/>
                <a:ext cx="1029600" cy="822960"/>
                <a:chOff x="3074760" y="3870360"/>
                <a:chExt cx="1029600" cy="822960"/>
              </a:xfrm>
            </p:grpSpPr>
            <p:grpSp>
              <p:nvGrpSpPr>
                <p:cNvPr id="1732" name="组合 24621"/>
                <p:cNvGrpSpPr/>
                <p:nvPr/>
              </p:nvGrpSpPr>
              <p:grpSpPr>
                <a:xfrm>
                  <a:off x="3074760" y="3870360"/>
                  <a:ext cx="1029600" cy="822960"/>
                  <a:chOff x="3074760" y="3870360"/>
                  <a:chExt cx="1029600" cy="822960"/>
                </a:xfrm>
              </p:grpSpPr>
              <p:sp>
                <p:nvSpPr>
                  <p:cNvPr id="1733" name="文本框 24622"/>
                  <p:cNvSpPr/>
                  <p:nvPr/>
                </p:nvSpPr>
                <p:spPr>
                  <a:xfrm>
                    <a:off x="3074760" y="4233600"/>
                    <a:ext cx="1020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（   ）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34" name="文本框 24623"/>
                  <p:cNvSpPr/>
                  <p:nvPr/>
                </p:nvSpPr>
                <p:spPr>
                  <a:xfrm>
                    <a:off x="3083760" y="3870360"/>
                    <a:ext cx="1020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（   ）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735" name="直接连接符 24624"/>
                <p:cNvSpPr/>
                <p:nvPr/>
              </p:nvSpPr>
              <p:spPr>
                <a:xfrm>
                  <a:off x="3319200" y="4297320"/>
                  <a:ext cx="431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736" name="组合 24625"/>
              <p:cNvGrpSpPr/>
              <p:nvPr/>
            </p:nvGrpSpPr>
            <p:grpSpPr>
              <a:xfrm>
                <a:off x="3808440" y="3860640"/>
                <a:ext cx="1029600" cy="822960"/>
                <a:chOff x="3808440" y="3860640"/>
                <a:chExt cx="1029600" cy="822960"/>
              </a:xfrm>
            </p:grpSpPr>
            <p:grpSp>
              <p:nvGrpSpPr>
                <p:cNvPr id="1737" name="组合 24626"/>
                <p:cNvGrpSpPr/>
                <p:nvPr/>
              </p:nvGrpSpPr>
              <p:grpSpPr>
                <a:xfrm>
                  <a:off x="3808440" y="3860640"/>
                  <a:ext cx="1029600" cy="822960"/>
                  <a:chOff x="3808440" y="3860640"/>
                  <a:chExt cx="1029600" cy="822960"/>
                </a:xfrm>
              </p:grpSpPr>
              <p:sp>
                <p:nvSpPr>
                  <p:cNvPr id="1738" name="文本框 24627"/>
                  <p:cNvSpPr/>
                  <p:nvPr/>
                </p:nvSpPr>
                <p:spPr>
                  <a:xfrm>
                    <a:off x="3808440" y="4223880"/>
                    <a:ext cx="1020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（   ）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39" name="文本框 24628"/>
                  <p:cNvSpPr/>
                  <p:nvPr/>
                </p:nvSpPr>
                <p:spPr>
                  <a:xfrm>
                    <a:off x="3817440" y="3860640"/>
                    <a:ext cx="1020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（   ）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740" name="直接连接符 24629"/>
                <p:cNvSpPr/>
                <p:nvPr/>
              </p:nvSpPr>
              <p:spPr>
                <a:xfrm>
                  <a:off x="4052880" y="4287600"/>
                  <a:ext cx="431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741" name="直接连接符 24630"/>
            <p:cNvSpPr/>
            <p:nvPr/>
          </p:nvSpPr>
          <p:spPr>
            <a:xfrm>
              <a:off x="1501920" y="430200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42" name="组合 24631"/>
          <p:cNvGrpSpPr/>
          <p:nvPr/>
        </p:nvGrpSpPr>
        <p:grpSpPr>
          <a:xfrm>
            <a:off x="2589120" y="3870360"/>
            <a:ext cx="647640" cy="818640"/>
            <a:chOff x="2589120" y="3870360"/>
            <a:chExt cx="647640" cy="818640"/>
          </a:xfrm>
        </p:grpSpPr>
        <p:sp>
          <p:nvSpPr>
            <p:cNvPr id="1743" name="文本框 24632"/>
            <p:cNvSpPr/>
            <p:nvPr/>
          </p:nvSpPr>
          <p:spPr>
            <a:xfrm>
              <a:off x="2598480" y="3870360"/>
              <a:ext cx="2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44" name="文本框 24633"/>
            <p:cNvSpPr/>
            <p:nvPr/>
          </p:nvSpPr>
          <p:spPr>
            <a:xfrm>
              <a:off x="2589120" y="42292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45" name="组合 24634"/>
          <p:cNvGrpSpPr/>
          <p:nvPr/>
        </p:nvGrpSpPr>
        <p:grpSpPr>
          <a:xfrm>
            <a:off x="3376440" y="3870360"/>
            <a:ext cx="649440" cy="818280"/>
            <a:chOff x="3376440" y="3870360"/>
            <a:chExt cx="649440" cy="818280"/>
          </a:xfrm>
        </p:grpSpPr>
        <p:sp>
          <p:nvSpPr>
            <p:cNvPr id="1746" name="文本框 24635"/>
            <p:cNvSpPr/>
            <p:nvPr/>
          </p:nvSpPr>
          <p:spPr>
            <a:xfrm>
              <a:off x="3376440" y="38703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47" name="文本框 24636"/>
            <p:cNvSpPr/>
            <p:nvPr/>
          </p:nvSpPr>
          <p:spPr>
            <a:xfrm>
              <a:off x="3377880" y="422892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48" name="组合 24637"/>
          <p:cNvGrpSpPr/>
          <p:nvPr/>
        </p:nvGrpSpPr>
        <p:grpSpPr>
          <a:xfrm>
            <a:off x="4024440" y="3860640"/>
            <a:ext cx="647640" cy="818280"/>
            <a:chOff x="4024440" y="3860640"/>
            <a:chExt cx="647640" cy="818280"/>
          </a:xfrm>
        </p:grpSpPr>
        <p:sp>
          <p:nvSpPr>
            <p:cNvPr id="1749" name="文本框 24638"/>
            <p:cNvSpPr/>
            <p:nvPr/>
          </p:nvSpPr>
          <p:spPr>
            <a:xfrm>
              <a:off x="4114800" y="3860640"/>
              <a:ext cx="2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50" name="文本框 24639"/>
            <p:cNvSpPr/>
            <p:nvPr/>
          </p:nvSpPr>
          <p:spPr>
            <a:xfrm>
              <a:off x="4024440" y="42192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51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二、教学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除以整数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TextBox 50"/>
          <p:cNvSpPr/>
          <p:nvPr/>
        </p:nvSpPr>
        <p:spPr>
          <a:xfrm>
            <a:off x="395280" y="1413000"/>
            <a:ext cx="547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引入情境，探究新知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3" name="Rectangle 2"/>
          <p:cNvSpPr/>
          <p:nvPr/>
        </p:nvSpPr>
        <p:spPr>
          <a:xfrm>
            <a:off x="142920" y="4862520"/>
            <a:ext cx="84297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读懂了什么？想到了什么？请你根据信息画出线段图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4" name="Rectangle 2"/>
          <p:cNvSpPr/>
          <p:nvPr/>
        </p:nvSpPr>
        <p:spPr>
          <a:xfrm>
            <a:off x="558720" y="5576760"/>
            <a:ext cx="9053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要想比谁走得快，我们可以比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比较平均每小时走的路程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比较走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所用的时间（本课时先解决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可机动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55" name="图片 25604" descr="32"/>
          <p:cNvPicPr/>
          <p:nvPr/>
        </p:nvPicPr>
        <p:blipFill>
          <a:blip r:embed="rId1"/>
          <a:stretch/>
        </p:blipFill>
        <p:spPr>
          <a:xfrm>
            <a:off x="544680" y="2060640"/>
            <a:ext cx="4458960" cy="2878200"/>
          </a:xfrm>
          <a:prstGeom prst="rect">
            <a:avLst/>
          </a:prstGeom>
          <a:ln w="0">
            <a:noFill/>
          </a:ln>
        </p:spPr>
      </p:pic>
      <p:grpSp>
        <p:nvGrpSpPr>
          <p:cNvPr id="1756" name="组合 25605"/>
          <p:cNvGrpSpPr/>
          <p:nvPr/>
        </p:nvGrpSpPr>
        <p:grpSpPr>
          <a:xfrm>
            <a:off x="5814720" y="1916280"/>
            <a:ext cx="2215080" cy="815040"/>
            <a:chOff x="5814720" y="1916280"/>
            <a:chExt cx="2215080" cy="815040"/>
          </a:xfrm>
        </p:grpSpPr>
        <p:sp>
          <p:nvSpPr>
            <p:cNvPr id="1757" name="Rectangle 49"/>
            <p:cNvSpPr/>
            <p:nvPr/>
          </p:nvSpPr>
          <p:spPr>
            <a:xfrm>
              <a:off x="5814720" y="2024640"/>
              <a:ext cx="22150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小明     小时走了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k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，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58" name="组合 25607"/>
            <p:cNvGrpSpPr/>
            <p:nvPr/>
          </p:nvGrpSpPr>
          <p:grpSpPr>
            <a:xfrm>
              <a:off x="6086520" y="1916280"/>
              <a:ext cx="511200" cy="815040"/>
              <a:chOff x="6086520" y="1916280"/>
              <a:chExt cx="511200" cy="815040"/>
            </a:xfrm>
          </p:grpSpPr>
          <p:sp>
            <p:nvSpPr>
              <p:cNvPr id="1759" name="文本框 25608"/>
              <p:cNvSpPr/>
              <p:nvPr/>
            </p:nvSpPr>
            <p:spPr>
              <a:xfrm>
                <a:off x="6093000" y="2271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0" name="文本框 25609"/>
              <p:cNvSpPr/>
              <p:nvPr/>
            </p:nvSpPr>
            <p:spPr>
              <a:xfrm>
                <a:off x="6086520" y="1916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1" name="直接连接符 25610"/>
              <p:cNvSpPr/>
              <p:nvPr/>
            </p:nvSpPr>
            <p:spPr>
              <a:xfrm>
                <a:off x="6102360" y="23353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762" name="组合 25611"/>
          <p:cNvGrpSpPr/>
          <p:nvPr/>
        </p:nvGrpSpPr>
        <p:grpSpPr>
          <a:xfrm>
            <a:off x="5320800" y="2556000"/>
            <a:ext cx="2474280" cy="1215720"/>
            <a:chOff x="5320800" y="2556000"/>
            <a:chExt cx="2474280" cy="1215720"/>
          </a:xfrm>
        </p:grpSpPr>
        <p:sp>
          <p:nvSpPr>
            <p:cNvPr id="1763" name="Rectangle 49"/>
            <p:cNvSpPr/>
            <p:nvPr/>
          </p:nvSpPr>
          <p:spPr>
            <a:xfrm>
              <a:off x="5320800" y="2671920"/>
              <a:ext cx="2474280" cy="10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小红     小时走了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k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。谁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走得快些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？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64" name="组合 25613"/>
            <p:cNvGrpSpPr/>
            <p:nvPr/>
          </p:nvGrpSpPr>
          <p:grpSpPr>
            <a:xfrm>
              <a:off x="5470560" y="2556000"/>
              <a:ext cx="504720" cy="797760"/>
              <a:chOff x="5470560" y="2556000"/>
              <a:chExt cx="504720" cy="797760"/>
            </a:xfrm>
          </p:grpSpPr>
          <p:sp>
            <p:nvSpPr>
              <p:cNvPr id="1765" name="文本框 25614"/>
              <p:cNvSpPr/>
              <p:nvPr/>
            </p:nvSpPr>
            <p:spPr>
              <a:xfrm>
                <a:off x="5470560" y="2894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6" name="文本框 25615"/>
              <p:cNvSpPr/>
              <p:nvPr/>
            </p:nvSpPr>
            <p:spPr>
              <a:xfrm>
                <a:off x="5553000" y="2556000"/>
                <a:ext cx="36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7" name="直接连接符 25616"/>
              <p:cNvSpPr/>
              <p:nvPr/>
            </p:nvSpPr>
            <p:spPr>
              <a:xfrm>
                <a:off x="5569200" y="29750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68" name="组合 25617"/>
            <p:cNvGrpSpPr/>
            <p:nvPr/>
          </p:nvGrpSpPr>
          <p:grpSpPr>
            <a:xfrm>
              <a:off x="6865920" y="2558880"/>
              <a:ext cx="511200" cy="815040"/>
              <a:chOff x="6865920" y="2558880"/>
              <a:chExt cx="511200" cy="815040"/>
            </a:xfrm>
          </p:grpSpPr>
          <p:sp>
            <p:nvSpPr>
              <p:cNvPr id="1769" name="文本框 25618"/>
              <p:cNvSpPr/>
              <p:nvPr/>
            </p:nvSpPr>
            <p:spPr>
              <a:xfrm>
                <a:off x="6872400" y="2914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0" name="文本框 25619"/>
              <p:cNvSpPr/>
              <p:nvPr/>
            </p:nvSpPr>
            <p:spPr>
              <a:xfrm>
                <a:off x="6865920" y="25588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1" name="直接连接符 25620"/>
              <p:cNvSpPr/>
              <p:nvPr/>
            </p:nvSpPr>
            <p:spPr>
              <a:xfrm>
                <a:off x="6881760" y="29779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772" name="组合 25621"/>
          <p:cNvGrpSpPr/>
          <p:nvPr/>
        </p:nvGrpSpPr>
        <p:grpSpPr>
          <a:xfrm>
            <a:off x="5867280" y="3606840"/>
            <a:ext cx="2160720" cy="1378800"/>
            <a:chOff x="5867280" y="3606840"/>
            <a:chExt cx="2160720" cy="1378800"/>
          </a:xfrm>
        </p:grpSpPr>
        <p:sp>
          <p:nvSpPr>
            <p:cNvPr id="1773" name="左大括号 25622"/>
            <p:cNvSpPr/>
            <p:nvPr/>
          </p:nvSpPr>
          <p:spPr>
            <a:xfrm rot="16200000">
              <a:off x="6875280" y="3486960"/>
              <a:ext cx="142920" cy="215928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56160 h 2159280"/>
                <a:gd name="textAreaBottom" fmla="*/ 2103120 h 21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74" name="组合 25623"/>
            <p:cNvGrpSpPr/>
            <p:nvPr/>
          </p:nvGrpSpPr>
          <p:grpSpPr>
            <a:xfrm>
              <a:off x="5867280" y="4398840"/>
              <a:ext cx="2160720" cy="81000"/>
              <a:chOff x="5867280" y="4398840"/>
              <a:chExt cx="2160720" cy="81000"/>
            </a:xfrm>
          </p:grpSpPr>
          <p:sp>
            <p:nvSpPr>
              <p:cNvPr id="1775" name="直接连接符 25624"/>
              <p:cNvSpPr/>
              <p:nvPr/>
            </p:nvSpPr>
            <p:spPr>
              <a:xfrm>
                <a:off x="5867280" y="4470480"/>
                <a:ext cx="2159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6" name="直接连接符 25625"/>
              <p:cNvSpPr/>
              <p:nvPr/>
            </p:nvSpPr>
            <p:spPr>
              <a:xfrm>
                <a:off x="5867280" y="4408560"/>
                <a:ext cx="0" cy="7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7" name="直接连接符 25626"/>
              <p:cNvSpPr/>
              <p:nvPr/>
            </p:nvSpPr>
            <p:spPr>
              <a:xfrm>
                <a:off x="8028000" y="4398840"/>
                <a:ext cx="0" cy="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78" name="左大括号 25627"/>
            <p:cNvSpPr/>
            <p:nvPr/>
          </p:nvSpPr>
          <p:spPr>
            <a:xfrm flipV="1" rot="5400000">
              <a:off x="6875640" y="3205080"/>
              <a:ext cx="142560" cy="215928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56160 h 2159280"/>
                <a:gd name="textAreaBottom" fmla="*/ 2103120 h 21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79" name="矩形 25628"/>
            <p:cNvSpPr/>
            <p:nvPr/>
          </p:nvSpPr>
          <p:spPr>
            <a:xfrm>
              <a:off x="6677280" y="4562640"/>
              <a:ext cx="5738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m</a:t>
              </a: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80" name="组合 25629"/>
            <p:cNvGrpSpPr/>
            <p:nvPr/>
          </p:nvGrpSpPr>
          <p:grpSpPr>
            <a:xfrm>
              <a:off x="6659640" y="3606840"/>
              <a:ext cx="511200" cy="726120"/>
              <a:chOff x="6659640" y="3606840"/>
              <a:chExt cx="511200" cy="726120"/>
            </a:xfrm>
          </p:grpSpPr>
          <p:sp>
            <p:nvSpPr>
              <p:cNvPr id="1781" name="文本框 25630"/>
              <p:cNvSpPr/>
              <p:nvPr/>
            </p:nvSpPr>
            <p:spPr>
              <a:xfrm>
                <a:off x="6666120" y="39099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2" name="文本框 25631"/>
              <p:cNvSpPr/>
              <p:nvPr/>
            </p:nvSpPr>
            <p:spPr>
              <a:xfrm>
                <a:off x="6659640" y="36068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3" name="直接连接符 25632"/>
              <p:cNvSpPr/>
              <p:nvPr/>
            </p:nvSpPr>
            <p:spPr>
              <a:xfrm>
                <a:off x="6675480" y="39927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84" name="文本框 25633"/>
            <p:cNvSpPr/>
            <p:nvPr/>
          </p:nvSpPr>
          <p:spPr>
            <a:xfrm>
              <a:off x="6939000" y="3751200"/>
              <a:ext cx="719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小时</a:t>
              </a: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85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、教学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个数除以分数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TextBox 50"/>
          <p:cNvSpPr/>
          <p:nvPr/>
        </p:nvSpPr>
        <p:spPr>
          <a:xfrm>
            <a:off x="396720" y="1413000"/>
            <a:ext cx="576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自主操作，深入理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7" name="TextBox 4"/>
          <p:cNvSpPr/>
          <p:nvPr/>
        </p:nvSpPr>
        <p:spPr>
          <a:xfrm>
            <a:off x="1143000" y="221472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解决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小明平均每小时走多少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8" name="Rectangle 2"/>
          <p:cNvSpPr/>
          <p:nvPr/>
        </p:nvSpPr>
        <p:spPr>
          <a:xfrm>
            <a:off x="679320" y="5599080"/>
            <a:ext cx="84297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思考，在刚才的线段图上如何表示小明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时走的路程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89" name="组合 26628"/>
          <p:cNvGrpSpPr/>
          <p:nvPr/>
        </p:nvGrpSpPr>
        <p:grpSpPr>
          <a:xfrm>
            <a:off x="2916360" y="2997360"/>
            <a:ext cx="2160360" cy="1378440"/>
            <a:chOff x="2916360" y="2997360"/>
            <a:chExt cx="2160360" cy="1378440"/>
          </a:xfrm>
        </p:grpSpPr>
        <p:sp>
          <p:nvSpPr>
            <p:cNvPr id="1790" name="左大括号 26629"/>
            <p:cNvSpPr/>
            <p:nvPr/>
          </p:nvSpPr>
          <p:spPr>
            <a:xfrm rot="16200000">
              <a:off x="3924360" y="2877480"/>
              <a:ext cx="142560" cy="215892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56160 h 2158920"/>
                <a:gd name="textAreaBottom" fmla="*/ 2102760 h 21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91" name="组合 26630"/>
            <p:cNvGrpSpPr/>
            <p:nvPr/>
          </p:nvGrpSpPr>
          <p:grpSpPr>
            <a:xfrm>
              <a:off x="2916360" y="3789000"/>
              <a:ext cx="2160360" cy="80280"/>
              <a:chOff x="2916360" y="3789000"/>
              <a:chExt cx="2160360" cy="80280"/>
            </a:xfrm>
          </p:grpSpPr>
          <p:sp>
            <p:nvSpPr>
              <p:cNvPr id="1792" name="直接连接符 26631"/>
              <p:cNvSpPr/>
              <p:nvPr/>
            </p:nvSpPr>
            <p:spPr>
              <a:xfrm>
                <a:off x="2916360" y="3860280"/>
                <a:ext cx="2158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3" name="直接连接符 26632"/>
              <p:cNvSpPr/>
              <p:nvPr/>
            </p:nvSpPr>
            <p:spPr>
              <a:xfrm>
                <a:off x="2916360" y="3798360"/>
                <a:ext cx="0" cy="7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4" name="直接连接符 26633"/>
              <p:cNvSpPr/>
              <p:nvPr/>
            </p:nvSpPr>
            <p:spPr>
              <a:xfrm>
                <a:off x="5076720" y="3789000"/>
                <a:ext cx="0" cy="7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95" name="左大括号 26634"/>
            <p:cNvSpPr/>
            <p:nvPr/>
          </p:nvSpPr>
          <p:spPr>
            <a:xfrm flipV="1" rot="5400000">
              <a:off x="3924720" y="2594160"/>
              <a:ext cx="142200" cy="2158920"/>
            </a:xfrm>
            <a:custGeom>
              <a:avLst/>
              <a:gdLst>
                <a:gd name="textAreaLeft" fmla="*/ 91080 w 142200"/>
                <a:gd name="textAreaRight" fmla="*/ 142560 w 142200"/>
                <a:gd name="textAreaTop" fmla="*/ 56160 h 2158920"/>
                <a:gd name="textAreaBottom" fmla="*/ 2102760 h 21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6" name="矩形 26635"/>
            <p:cNvSpPr/>
            <p:nvPr/>
          </p:nvSpPr>
          <p:spPr>
            <a:xfrm>
              <a:off x="3726000" y="3952800"/>
              <a:ext cx="5738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m</a:t>
              </a: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97" name="组合 26636"/>
            <p:cNvGrpSpPr/>
            <p:nvPr/>
          </p:nvGrpSpPr>
          <p:grpSpPr>
            <a:xfrm>
              <a:off x="3708360" y="2997360"/>
              <a:ext cx="510480" cy="725760"/>
              <a:chOff x="3708360" y="2997360"/>
              <a:chExt cx="510480" cy="725760"/>
            </a:xfrm>
          </p:grpSpPr>
          <p:sp>
            <p:nvSpPr>
              <p:cNvPr id="1798" name="文本框 26637"/>
              <p:cNvSpPr/>
              <p:nvPr/>
            </p:nvSpPr>
            <p:spPr>
              <a:xfrm>
                <a:off x="3714480" y="330012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9" name="文本框 26638"/>
              <p:cNvSpPr/>
              <p:nvPr/>
            </p:nvSpPr>
            <p:spPr>
              <a:xfrm>
                <a:off x="3708360" y="299736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00" name="直接连接符 26639"/>
              <p:cNvSpPr/>
              <p:nvPr/>
            </p:nvSpPr>
            <p:spPr>
              <a:xfrm>
                <a:off x="3723840" y="338292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801" name="文本框 26640"/>
            <p:cNvSpPr/>
            <p:nvPr/>
          </p:nvSpPr>
          <p:spPr>
            <a:xfrm>
              <a:off x="3987720" y="3141360"/>
              <a:ext cx="718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小时</a:t>
              </a: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02" name="组合 26641"/>
          <p:cNvGrpSpPr/>
          <p:nvPr/>
        </p:nvGrpSpPr>
        <p:grpSpPr>
          <a:xfrm>
            <a:off x="250920" y="4797360"/>
            <a:ext cx="8568720" cy="1026720"/>
            <a:chOff x="250920" y="4797360"/>
            <a:chExt cx="8568720" cy="1026720"/>
          </a:xfrm>
        </p:grpSpPr>
        <p:sp>
          <p:nvSpPr>
            <p:cNvPr id="1803" name="Rectangle 2"/>
            <p:cNvSpPr/>
            <p:nvPr/>
          </p:nvSpPr>
          <p:spPr>
            <a:xfrm>
              <a:off x="250920" y="4797360"/>
              <a:ext cx="856872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问题：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怎样求上面的问题？用到了我们以前学过的什么知识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路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÷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时间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速度）请你列出算式。（              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04" name="组合 26643"/>
            <p:cNvGrpSpPr/>
            <p:nvPr/>
          </p:nvGrpSpPr>
          <p:grpSpPr>
            <a:xfrm>
              <a:off x="6087240" y="5022000"/>
              <a:ext cx="961560" cy="802080"/>
              <a:chOff x="6087240" y="5022000"/>
              <a:chExt cx="961560" cy="802080"/>
            </a:xfrm>
          </p:grpSpPr>
          <p:sp>
            <p:nvSpPr>
              <p:cNvPr id="1805" name="Rectangle 49"/>
              <p:cNvSpPr/>
              <p:nvPr/>
            </p:nvSpPr>
            <p:spPr>
              <a:xfrm>
                <a:off x="6087240" y="5171400"/>
                <a:ext cx="46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2÷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806" name="组合 26645"/>
              <p:cNvGrpSpPr/>
              <p:nvPr/>
            </p:nvGrpSpPr>
            <p:grpSpPr>
              <a:xfrm>
                <a:off x="6529680" y="5022000"/>
                <a:ext cx="519120" cy="802080"/>
                <a:chOff x="6529680" y="5022000"/>
                <a:chExt cx="519120" cy="802080"/>
              </a:xfrm>
            </p:grpSpPr>
            <p:sp>
              <p:nvSpPr>
                <p:cNvPr id="1807" name="文本框 26646"/>
                <p:cNvSpPr/>
                <p:nvPr/>
              </p:nvSpPr>
              <p:spPr>
                <a:xfrm>
                  <a:off x="6536160" y="5364360"/>
                  <a:ext cx="512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08" name="文本框 26647"/>
                <p:cNvSpPr/>
                <p:nvPr/>
              </p:nvSpPr>
              <p:spPr>
                <a:xfrm>
                  <a:off x="6529680" y="5022000"/>
                  <a:ext cx="366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09" name="直接连接符 26648"/>
                <p:cNvSpPr/>
                <p:nvPr/>
              </p:nvSpPr>
              <p:spPr>
                <a:xfrm>
                  <a:off x="6545520" y="5425920"/>
                  <a:ext cx="291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1810" name="Rectangle 2"/>
          <p:cNvSpPr/>
          <p:nvPr/>
        </p:nvSpPr>
        <p:spPr>
          <a:xfrm>
            <a:off x="466560" y="42696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、教学例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个数除以分数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6:26Z</dcterms:modified>
  <cp:revision>3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